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03240" cy="26766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111240" y="5715000"/>
            <a:ext cx="2770200" cy="104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74960" y="1154160"/>
            <a:ext cx="70232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2082960" y="1212840"/>
            <a:ext cx="6821640" cy="290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CLUB L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47920" y="3886200"/>
            <a:ext cx="6400800" cy="13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70000"/>
              </a:lnSpc>
              <a:spcBef>
                <a:spcPts val="479"/>
              </a:spcBef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Arial"/>
              </a:rPr>
              <a:t>Ramon C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479"/>
              </a:spcBef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Arial"/>
              </a:rPr>
              <a:t>Director,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479"/>
              </a:spcBef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Arial"/>
              </a:rPr>
              <a:t>Synon In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479"/>
              </a:spcBef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Arial"/>
              </a:rPr>
              <a:t>rwc@synon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Produc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Learning curve longer than expected due to depth of produc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V3.0 is stable as major bugs have been exter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Inheritance is very powerful and efficient, but requires time to master it’s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Ability to switch platforms useful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Development and run-time performance needs to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Projec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29528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Rewrite of MAPICS OE&amp;I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Heavily modified and heavi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7 remote locations; one AS/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Approximately 135 ent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Two group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1 Standard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1 Proj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WinC &amp; 5250 variants 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3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Length of project 2 yrs 3 mos from purchase to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Desig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2193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3 Developers working in 3 separate areas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1 Developer designing Standards layer &amp; extended base class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Don’t get carried away designing Standards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Test Standard objects in Standards group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Scraped program flow &amp; GUI standards 3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Provide adequate time fo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2x the estimate for designing Standards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Increase testing phase to account for user’s time to adapt to new platfrom &amp; new GUI &amp;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Object Generation &amp; Comp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Made routines External &amp; 5250 for re-us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Named DDS file implementation names, let Obsydian name FN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ompiled objects into test directory on server, then promoted into production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3716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ontinuous test phase throughout, after first stage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Lack of complete user testing caused problems after going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Make sure you know the effects of using base class objects: Get Sequential, 5250 FNCs W/O Terminate statemen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Test run-time performance &amp; plan for adequat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Built Comments/Questions Entity with Text for users during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Automated promotion of objects to remote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Problems with WinC FNCs picking up incorrect Librar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User’s need read/write access to LAN directory where WinC FNCs re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User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Not enough time to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Not familiar with the Windows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Uncomfortable with base class terms: Filter, grid, Cancel vs.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Didn’t understand or like Equals/Contains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Accepted and comfortable two months afte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Project succeeded but went past d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PC development requirements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Extended time to develop Standards layer delay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Successive projects should see dramatic reduction in length due to standards, template FNCs, &amp; experience created during this project, along with improvement in Obsy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Building successful applications with Obsy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47920" y="3886200"/>
            <a:ext cx="64008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Roger Griffith #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Arial"/>
              </a:rPr>
              <a:t>RGRIFFITH@COMP-ART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Computer Arts, I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Boise Ida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267600" y="4991040"/>
            <a:ext cx="28130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Computer Art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Synon Business Partner Since 1990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Multitude of Synon 2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Software and Support For 28 County Governments In Ida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ommercial Applications Ranging From Trucking To Utility Bil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Club Lava Activities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Obsydian market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Club Lava Member’s Anecd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Bob Kosharek - Everb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Roger Griffith - Computer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Club Lava Ideas and 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The Early D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Primary focus has been on AS/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Increasing difficulty to market “Green Screen” applications against “GUI”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Need to expand our customer base beyond the AS/400 mar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Obsydian offered just what we were looking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Windows based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Interface to windows applications within our applications (Microsoft Word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Open platform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Scaleabilit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Decision to “Go For 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Watched progress of Obsydian for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Did not want to be a pio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Took test drive at Orlando IUC in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Purchased Obsydian a month l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The first Obsydia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Was already in design phase of a large trucking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Went through Obsydian education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ompleted application in six months with two developers (42 ent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ustomer extremely happy with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Stable, robust, and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991200" y="76320"/>
            <a:ext cx="19209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Development b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The word of success with application got out to local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ontracted with Agri Beef Inc. to develop a Feed Lot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Re-write of a System 36 based system that had been tried multiple times, without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77004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Success at Agri Be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Team of four developers (two from CAI, and two new Obsydian developers from Agri Be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ompleted application in nine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Developed in ODBC (Sy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urrently deployed in Client Server (AS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7542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Development by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Major push to re-write our 2E based Law Enforcement application in Obsydian (to get to Windows and Open Plat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Developed application at home from 6 until midnight, seven days a week (wh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ompleted application (68 entities) in eleven months (one develo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2376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Success of Law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Started marketing application after six months of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Immediate success with marke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ustomers are overwhelmed with the power and ease of use of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Potential for product is tremend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483320" y="476280"/>
            <a:ext cx="148608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Our Developmen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Five developers (Two with Synon 2E backgr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No C++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urrently have eight applications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All development is done with ODBC using Sy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Entities we use heav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User maintained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Grid maintained entity (code files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Referenced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Enumerated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Entity with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Entity with Tab 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Overview of Club L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520" y="106668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What is Club La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How do I become a m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Why would I want to become a m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Create a Standards Class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Enforces consistancy in your applications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Allows you to add more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Gives you a layer of control between the Synon Class Libraries and your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Leverage the power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Reporting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We chose to use Crystal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No run-time liscense required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Users can create their own reports, without having to have buy a seat of Obsy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Interfaces applications to crystal reports through our standards class library (special thanks to Dave Lev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668920" y="304920"/>
            <a:ext cx="161604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Some samples of ou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1617840"/>
            <a:ext cx="69897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088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Interfaces with any Windows based word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0880" y="1324080"/>
            <a:ext cx="837576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Run Crystal Reports from within ou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219320" y="1579680"/>
            <a:ext cx="694836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Preview, Print, Or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90600" y="1957320"/>
            <a:ext cx="65563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Conclusi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Obsydian... we tried it, and we like it.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When it comes to a powerful development tool for creating client/server applications, Obsydian has come through for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Club Lava Idea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249084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90720" y="7920"/>
            <a:ext cx="144874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Club Lava Activities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9907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3 Club Lava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CP1252"/>
              <a:buChar char=""/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Arial"/>
              </a:rPr>
              <a:t>IUC 97, EUC 97 &amp; IUC 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Many LavaLights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CP1252"/>
              <a:buChar char=""/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  <a:ea typeface="Arial"/>
              </a:rPr>
              <a:t>Strong direct feedback to development through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Access to update profile, password &amp; e-mail addres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Club Lava Gall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-Shirts, Denims, certifica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Obsydian and Synon 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5280" y="1295280"/>
            <a:ext cx="747396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6040" indent="-4460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BM Comm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ech Ed ‘97, Orlando, Nice,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ech Ed ‘98, New Or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Gartner Group ‘97 - Orlando,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Scalabilit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Press, customer stories, videos, 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visibility, visibility,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…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.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 Black"/>
                <a:ea typeface="Arial Black"/>
              </a:rPr>
              <a:t>Club Lava Member’s </a:t>
            </a: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Anecdotes &amp; Anecdotes of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950160" cy="1440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27040" y="3581280"/>
            <a:ext cx="823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893880" indent="-33336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Bob Kosharek - Everb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3336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Roger Griffith - Computer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Obsydian Project Re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92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70000"/>
              </a:lnSpc>
              <a:spcBef>
                <a:spcPts val="479"/>
              </a:spcBef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Arial"/>
              </a:rPr>
              <a:t>Robert Koshar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479"/>
              </a:spcBef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Arial"/>
              </a:rPr>
              <a:t>Everbrite, In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479"/>
              </a:spcBef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Arial"/>
              </a:rPr>
              <a:t>bkosharek@everbrite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45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  <a:ea typeface="Arial Black"/>
              </a:rPr>
              <a:t>Review of Obsydia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6002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Produc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Projec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Design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Object Generation &amp;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User View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cc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mon Chen, Bob Kosharek, Roger Griffith</dc:creator>
  <dc:description>IUC98 Presentation in Orlando Florida.</dc:description>
  <dc:language>en-US</dc:language>
  <cp:lastModifiedBy>Ramon Chen</cp:lastModifiedBy>
  <cp:revision>0</cp:revision>
  <dc:subject/>
  <dc:title>Club Lava</dc:title>
</cp:coreProperties>
</file>