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19.png" ContentType="image/png"/>
  <Override PartName="/ppt/media/image1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9805988"/>
  <p:custShowLst>
    <p:custShow name="Need to Know" id="0">
      <p:sldLst>
        <p:sld r:id="rId8"/>
      </p:sldLst>
    </p:custShow>
    <p:custShow name="Synon/MI" id="1">
      <p:sldLst>
        <p:sld r:id="rId9"/>
      </p:sldLst>
    </p:custShow>
    <p:custShow name="Alternatives" id="2">
      <p:sldLst>
        <p:sld r:id="rId10"/>
      </p:sldLst>
    </p:custShow>
    <p:custShow name="Projects" id="3">
      <p:sldLst>
        <p:sld r:id="rId11"/>
      </p:sldLst>
    </p:custShow>
    <p:custShow name="How it Works" id="4">
      <p:sldLst>
        <p:sld r:id="rId12"/>
      </p:sldLst>
    </p:custShow>
    <p:custShow name="Shipped Searches" id="5">
      <p:sldLst>
        <p:sld r:id="rId13"/>
      </p:sldLst>
    </p:custShow>
    <p:custShow name="Attributes and Rules" id="6">
      <p:sldLst>
        <p:sld r:id="rId14"/>
      </p:sldLst>
    </p:custShow>
    <p:custShow name="Defining a Search" id="7">
      <p:sldLst>
        <p:sld r:id="rId1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1D45-43BD-47C3-BE86-F3D62B84A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45A5-C711-4F45-9C46-CDBF9EF7D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ECEF-C54A-4C4A-8FBD-A4076CA29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A54-85FA-40FA-A286-991793079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002-812A-475E-BC87-0D4A29ED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008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1400" y="15998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0912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008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1400" y="4107240"/>
            <a:ext cx="2600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1CFA-52AE-4354-8FE2-92D0A102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07A-0CC8-461C-BF33-C05536E4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848-F957-4A34-A151-B1647157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4160" y="0"/>
            <a:ext cx="906804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32E9-E3A6-4FD7-B87C-94A8C5584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FF6-C3F0-43F6-98C3-0DEA5840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48400" y="41072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FAB-7760-4A66-ABF9-0377BE11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48400" y="1599840"/>
            <a:ext cx="394164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4107240"/>
            <a:ext cx="8077320" cy="22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6387-D370-4CDA-BA9A-814B245AB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7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buClr>
                <a:srgbClr val="ffcc66"/>
              </a:buClr>
              <a:buSzPct val="77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600" y="6705360"/>
            <a:ext cx="121752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17360" y="6703920"/>
            <a:ext cx="404028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1520" y="6705360"/>
            <a:ext cx="760680" cy="15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cc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383BF-31C0-4876-AB4C-39A54FA0C039}" type="slidenum">
              <a:rPr b="0" lang="en-US" sz="900" spc="-1" strike="noStrike">
                <a:solidFill>
                  <a:srgbClr val="ffcc6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33480" y="6667560"/>
            <a:ext cx="29084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cc66"/>
                </a:solidFill>
                <a:latin typeface="Arial"/>
              </a:rPr>
              <a:t>©1998 SYNON Inc. </a:t>
            </a:r>
            <a:endParaRPr b="0" lang="en-US" sz="9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828800" cy="270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111240" y="5715000"/>
          <a:ext cx="2795400" cy="106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11240" y="5715000"/>
                    <a:ext cx="279540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974960" y="1154160"/>
            <a:ext cx="7022880" cy="39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2082960" y="1212840"/>
            <a:ext cx="6846840" cy="316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Click to edit the title text format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457200" indent="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2" marL="9144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3" marL="13716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4" marL="1828800" algn="ctr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cc66"/>
              </a:buClr>
              <a:buSzPct val="77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cc66"/>
              </a:buClr>
              <a:buSzPct val="77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7400" y="1981080"/>
            <a:ext cx="6858000" cy="11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imes New Roman"/>
              </a:rPr>
              <a:t>Synon Model Investigator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A valuable new tool for finding answers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Times New Roman"/>
              </a:rPr>
              <a:t>within your Synon/2E model”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72520" y="3962520"/>
            <a:ext cx="389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John Haynes 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rincipal Software Engineer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Synon Inc.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JCH@synon.com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hipped Search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358164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ost common model details predefin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implify definitio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orking example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902120" y="1303200"/>
            <a:ext cx="2995560" cy="4267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07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ttributes and Rul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Internal data definition reveal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Valid values provided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bility to add your ow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760" cy="1300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143000" y="3276720"/>
            <a:ext cx="6867360" cy="30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Defining a Search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*BASIC, *INTERMEDIATE, *ADVANCE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Logic express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Criterion defined at various level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143000" y="2895480"/>
            <a:ext cx="6867360" cy="3448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07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ynon/MI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85720" cy="8049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666520" y="279720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ynon/MI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905120" y="4037040"/>
            <a:ext cx="595080" cy="8571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741400" y="4091040"/>
            <a:ext cx="29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Alternativ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1905120" y="5334120"/>
            <a:ext cx="566640" cy="706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743560" y="5386320"/>
            <a:ext cx="149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Project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924200" y="1447920"/>
            <a:ext cx="547560" cy="799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663640" y="1500120"/>
            <a:ext cx="329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The Need to Know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ynon/MI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97" name=""/>
          <p:cNvSpPr/>
          <p:nvPr/>
        </p:nvSpPr>
        <p:spPr>
          <a:xfrm>
            <a:off x="2742120" y="1576440"/>
            <a:ext cx="239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How it work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41040" y="279576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Shipped Search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76000" cy="7477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905120" y="1523880"/>
            <a:ext cx="556920" cy="831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1905120" y="3952800"/>
            <a:ext cx="560160" cy="81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741760" y="4091040"/>
            <a:ext cx="32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Attributes &amp; Rules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39960" y="5386320"/>
            <a:ext cx="322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Defining a Search</a:t>
            </a:r>
            <a:r>
              <a:rPr b="0" lang="en-US" sz="30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1905120" y="5257800"/>
            <a:ext cx="612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38080" y="2438280"/>
            <a:ext cx="7620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Synon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Model Investigato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72200" y="5638680"/>
          <a:ext cx="2795760" cy="1069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5638680"/>
                    <a:ext cx="2795760" cy="10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5606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Need to Know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13712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Year 2000 diagnosi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Assimilated fil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Internal ‘date’ manipulation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Existing Application Qua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Standards compliance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Performance improvemen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Applicat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Benefiting from standard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35480" indent="-28296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Evolving standard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7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Synon/MI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New Synon/2 family member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nalysis and Design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Project management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Reproducible result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and so much more...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81480" y="1600200"/>
            <a:ext cx="3505320" cy="4800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07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Alternative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200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2E Analysis tool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QL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Que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Open Quer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648320" y="1219320"/>
            <a:ext cx="3247920" cy="4749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 rot="415800">
            <a:off x="5259960" y="1526760"/>
            <a:ext cx="141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DSPMDLREF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1424200">
            <a:off x="5853600" y="1916280"/>
            <a:ext cx="14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YDSPMDLUSG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745200">
            <a:off x="5106240" y="2286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75800">
            <a:off x="6021360" y="3047760"/>
            <a:ext cx="95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PNQRY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21021000">
            <a:off x="5335920" y="365760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QRY</a:t>
            </a: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07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Project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Year 2000 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urrency conversions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Leverage new features in 2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Maximize re-us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50760" cy="1300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019920" y="1828800"/>
            <a:ext cx="2166840" cy="31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60" y="0"/>
            <a:ext cx="9068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 Black"/>
              </a:rPr>
              <a:t>How it Works</a:t>
            </a:r>
            <a:endParaRPr b="1" lang="en-US" sz="3200" spc="-1" strike="noStrike">
              <a:solidFill>
                <a:srgbClr val="ffcc6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5105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Complexity tailored to ability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Capability set user by user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Prompting *Wizard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cc0000"/>
              </a:buClr>
              <a:buSzPct val="77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Searches are reusable</a:t>
            </a:r>
            <a:endParaRPr b="1" lang="en-US" sz="24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Combine existing searche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Start from known results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cc0000"/>
              </a:buClr>
              <a:buSzPct val="77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Independent of model</a:t>
            </a: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52880" y="2057400"/>
            <a:ext cx="4040280" cy="2903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50760" cy="1300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3-18T18:28:52Z</dcterms:created>
  <dc:creator>Derek Hall</dc:creator>
  <dc:description>This is the suggested presentation for Release 6.0
</dc:description>
  <dc:language>en-US</dc:language>
  <cp:lastModifiedBy>John Haynes</cp:lastModifiedBy>
  <cp:lastPrinted>1998-04-30T18:45:50Z</cp:lastPrinted>
  <dcterms:modified xsi:type="dcterms:W3CDTF">1998-06-04T15:46:06Z</dcterms:modified>
  <cp:revision>100</cp:revision>
  <dc:subject>Trends and Directions</dc:subject>
  <dc:title>  Synon/2 Release 6.0 and beyond…  Synon User Conference Orlando, Florida May 1996</dc:title>
</cp:coreProperties>
</file>