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3.wmf" ContentType="image/x-wmf"/>
  <Override PartName="/ppt/media/image22.jpeg" ContentType="image/jpeg"/>
  <Override PartName="/ppt/media/image21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07DCA6-C398-4D09-B795-00EE5564E39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7480" cy="450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words for the 90'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areer limiting move. Used to describe an ill-advised activity.  Trashing your boss while he or she is within earshot is a serious CL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G AND PL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A new hire who doesn't need any train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the adage "It's not a bug, it's a feature."  Used sarcastically to describe an unpleasant experience that you'd hope your friend/customer would view in a more positive l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CUSSIVE MAINTENAN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he fine art of whacking an electronic device to get it to work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BCA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Tech support shorthand for "Problem Exists Between the Chair and Keyboard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GULL MANAG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A manager who flies in, makes a lot of noise, makes a mess of everything and then lea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NOSECO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That minuscule fraction of time in which you realize that you've just made a big mistak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EPILEPS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The brief seizure people sometimes have when their beeper goes off (especially in vibrator mode). Characterized by physical spasms, goofy facial expressions and interruption of speech in mid-sent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MOS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The process by which some people seem to absorb success and advancement by kissing up to the boss rather than working ha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MESTORM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Sitting around in a group discussing why a deadline was missed or a project failed, and who was responsi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e different look and feel implementations at the end of this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CA4-4526-4D2B-8B3B-8567BC0E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4B1-2D94-4BAE-86EB-011FD29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463-9BDF-4518-8A9A-4BFF5B0F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BDC-7651-48C9-A88D-EEA75F3E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696-2BE4-4146-982E-8B35E362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6E3-6B84-425C-8733-19288E7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FCF-7522-42E7-86EA-EE782D5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EED-61E5-4576-B5F5-C0E841D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317-5D96-4DB3-90CA-45BBE8BF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B86-BE5C-4846-9056-DD0B95F0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5D3-D972-4E89-A8FF-ACECCC3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C69-6748-4640-8503-F004A2F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66720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24F-A145-4F16-92F2-5A3910BE27BA}" type="datetime">
              <a:rPr b="0" lang="en-US" sz="900" spc="-1" strike="noStrike">
                <a:solidFill>
                  <a:srgbClr val="ffcc66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667200"/>
            <a:ext cx="40402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66720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F2F-F661-4844-9C9B-970ED2DE7F77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 1998 Synon, Inc. 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974960" y="1154160"/>
            <a:ext cx="7022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082960" y="1212840"/>
            <a:ext cx="6808680" cy="27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image" Target="../media/image5.png"/><Relationship Id="rId7" Type="http://schemas.openxmlformats.org/officeDocument/2006/relationships/image" Target="../media/image8.wmf"/><Relationship Id="rId8" Type="http://schemas.openxmlformats.org/officeDocument/2006/relationships/image" Target="../media/image5.png"/><Relationship Id="rId9" Type="http://schemas.openxmlformats.org/officeDocument/2006/relationships/image" Target="../media/image8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10.wmf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Power Of The Pyrami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8840" y="3962160"/>
            <a:ext cx="2971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ke Cahill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enior Software Engineer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ynon Inc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cahill@synon.co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pyramid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990720" cy="636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962520"/>
            <a:ext cx="2971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John Browne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incipal Engineer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ynon Inc.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jpb@synon.com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4320" y="63244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yramidTeam@synon.com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Concep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Package Reques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One per package per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ersisted in server databas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Has status: on queue, sending, success or error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Package Manager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be stopped and starte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Keeps a queue of package reques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controls how many package requests to process simultaneousl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498-D497-4DB2-A198-4397333B8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Fe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Send Messag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opup messages can be sent to clients, groups of clients and packag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Inventor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can request a list of packages installed on a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Verif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can verify completeness of a package on a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E34-287E-406F-858A-ACA576A22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Features cont.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Multi-threaded bandwidth managem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has control of how many package requests are handled simultaneousl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Impor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mport package information from Obsydian or other tool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Change managem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utomatic rollback of packag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Scheduler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efine scheduled dates and times to push packag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CA7-10B5-4EB4-8981-4E25890C5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monstra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213-A28E-4159-8688-F7BFE9A73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7507" t="15571" r="39110" b="19926"/>
          <a:stretch/>
        </p:blipFill>
        <p:spPr>
          <a:xfrm>
            <a:off x="304920" y="1219320"/>
            <a:ext cx="3962160" cy="3321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5859" t="24469" r="25767" b="24375"/>
          <a:stretch/>
        </p:blipFill>
        <p:spPr>
          <a:xfrm>
            <a:off x="5257800" y="33526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Obsydia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505320" y="3200400"/>
            <a:ext cx="2525760" cy="133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799880" y="1371600"/>
            <a:ext cx="40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bsydian generates packag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scription which is importe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by Pyramid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040" y="476568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yramid deploys package to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pecified client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A0B-0347-4191-ACF5-37B59F6C5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Obsydia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er and Group objects are being added to Obsydian for new repositor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ombined with existing package object -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llows modeling/diagramming of deployment schema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ackage deployment schema can be generate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will import generated package deployment schema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utomated delivery via Obsydian generated package definition fil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503-C071-4E52-B38C-A93DB2AAC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The AS/400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ing Pyramid to deploy AS/400 objec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es the Integrated File System (IFS)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deploy any AS/400 objec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FS directories and fil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Native AS/400 librari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unning Pyramid with the AS/400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e IBM’s Remote AWT classes to execute Pyramid on the AS/400 and pipe GUI to client Windows system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un Pyramid on a Windows machine and use Client Access to map a drive to IFS on AS/400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equires V4R2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1" name="image" descr=""/>
          <p:cNvPicPr/>
          <p:nvPr/>
        </p:nvPicPr>
        <p:blipFill>
          <a:blip r:embed="rId2"/>
          <a:stretch/>
        </p:blipFill>
        <p:spPr>
          <a:xfrm>
            <a:off x="6705720" y="1752480"/>
            <a:ext cx="203184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D2D-4905-4FCF-88C3-E2358ED66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Performanc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rver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en listening for clients, requires very little resour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be configured to send to multiple clients simultaneously - each runs as a separate threa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udit log entries and completed package requests should be periodically removed from databas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en listening for packages, requires very little resour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Each connection from a server runs as a separate thread on the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F75-BE12-4A50-99EE-BDFCD201E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Performanc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25859" t="24469" r="25767" b="24375"/>
          <a:stretch/>
        </p:blipFill>
        <p:spPr>
          <a:xfrm>
            <a:off x="1463760" y="2309760"/>
            <a:ext cx="190476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654520" y="1319040"/>
            <a:ext cx="1143000" cy="865440"/>
            <a:chOff x="5654520" y="1319040"/>
            <a:chExt cx="1143000" cy="86544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5654520" y="1319040"/>
              <a:ext cx="114300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yramid" descr=""/>
            <p:cNvPicPr/>
            <p:nvPr/>
          </p:nvPicPr>
          <p:blipFill>
            <a:blip r:embed="rId4"/>
            <a:stretch/>
          </p:blipFill>
          <p:spPr>
            <a:xfrm>
              <a:off x="6035400" y="1471680"/>
              <a:ext cx="228600" cy="14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4038120" y="1751760"/>
            <a:ext cx="1616400" cy="1281960"/>
            <a:chOff x="4038120" y="1751760"/>
            <a:chExt cx="1616400" cy="1281960"/>
          </a:xfrm>
        </p:grpSpPr>
        <p:grpSp>
          <p:nvGrpSpPr>
            <p:cNvPr id="170" name=""/>
            <p:cNvGrpSpPr/>
            <p:nvPr/>
          </p:nvGrpSpPr>
          <p:grpSpPr>
            <a:xfrm>
              <a:off x="4732920" y="1928520"/>
              <a:ext cx="299520" cy="388440"/>
              <a:chOff x="4732920" y="1928520"/>
              <a:chExt cx="299520" cy="38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740120" y="1928520"/>
                <a:ext cx="285480" cy="28584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626600">
                <a:off x="4739760" y="2023920"/>
                <a:ext cx="285480" cy="28584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cxnSp>
          <p:nvCxnSpPr>
            <p:cNvPr id="173" name=""/>
            <p:cNvCxnSpPr>
              <a:stCxn id="174" idx="4"/>
              <a:endCxn id="172" idx="0"/>
            </p:cNvCxnSpPr>
            <p:nvPr/>
          </p:nvCxnSpPr>
          <p:spPr>
            <a:xfrm flipV="1">
              <a:off x="4038120" y="2166480"/>
              <a:ext cx="665640" cy="8676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0"/>
              <a:endCxn id="167" idx="1"/>
            </p:cNvCxnSpPr>
            <p:nvPr/>
          </p:nvCxnSpPr>
          <p:spPr>
            <a:xfrm flipV="1">
              <a:off x="4885560" y="1751760"/>
              <a:ext cx="769320" cy="17676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</p:grpSp>
      <p:grpSp>
        <p:nvGrpSpPr>
          <p:cNvPr id="176" name=""/>
          <p:cNvGrpSpPr/>
          <p:nvPr/>
        </p:nvGrpSpPr>
        <p:grpSpPr>
          <a:xfrm>
            <a:off x="2987640" y="2690640"/>
            <a:ext cx="1050480" cy="685800"/>
            <a:chOff x="2987640" y="2690640"/>
            <a:chExt cx="1050480" cy="685800"/>
          </a:xfrm>
        </p:grpSpPr>
        <p:sp>
          <p:nvSpPr>
            <p:cNvPr id="174" name=""/>
            <p:cNvSpPr/>
            <p:nvPr/>
          </p:nvSpPr>
          <p:spPr>
            <a:xfrm>
              <a:off x="3520800" y="2690640"/>
              <a:ext cx="517320" cy="685800"/>
            </a:xfrm>
            <a:prstGeom prst="can">
              <a:avLst>
                <a:gd name="adj" fmla="val 34722"/>
              </a:avLst>
            </a:prstGeom>
            <a:solidFill>
              <a:srgbClr val="cccc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7640" y="2995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038120" y="2538360"/>
            <a:ext cx="2759400" cy="3151080"/>
            <a:chOff x="4038120" y="2538360"/>
            <a:chExt cx="2759400" cy="3151080"/>
          </a:xfrm>
        </p:grpSpPr>
        <p:grpSp>
          <p:nvGrpSpPr>
            <p:cNvPr id="179" name=""/>
            <p:cNvGrpSpPr/>
            <p:nvPr/>
          </p:nvGrpSpPr>
          <p:grpSpPr>
            <a:xfrm>
              <a:off x="4038120" y="2538360"/>
              <a:ext cx="2759400" cy="2008080"/>
              <a:chOff x="4038120" y="2538360"/>
              <a:chExt cx="2759400" cy="20080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731120" y="2766960"/>
                <a:ext cx="302400" cy="463680"/>
                <a:chOff x="4731120" y="2766960"/>
                <a:chExt cx="302400" cy="463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40120" y="2766960"/>
                  <a:ext cx="285480" cy="34272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825" y="10500"/>
                      </a:moveTo>
                      <a:arcTo wR="-6981" hR="-6981" stAng="-10652231" swAng="-10947769"/>
                      <a:lnTo>
                        <a:pt x="0" y="10800"/>
                      </a:lnTo>
                      <a:arcTo wR="10800" hR="10800" stAng="10800000" swAng="10947769"/>
                      <a:lnTo>
                        <a:pt x="24288" y="11380"/>
                      </a:lnTo>
                      <a:lnTo>
                        <a:pt x="19484" y="15787"/>
                      </a:lnTo>
                      <a:lnTo>
                        <a:pt x="15077" y="10984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0626600">
                  <a:off x="4739400" y="2880720"/>
                  <a:ext cx="285480" cy="34272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825" y="10500"/>
                      </a:moveTo>
                      <a:arcTo wR="-6981" hR="-6981" stAng="-10652231" swAng="-10947769"/>
                      <a:lnTo>
                        <a:pt x="0" y="10800"/>
                      </a:lnTo>
                      <a:arcTo wR="10800" hR="10800" stAng="10800000" swAng="10947769"/>
                      <a:lnTo>
                        <a:pt x="24288" y="11380"/>
                      </a:lnTo>
                      <a:lnTo>
                        <a:pt x="19484" y="15787"/>
                      </a:lnTo>
                      <a:lnTo>
                        <a:pt x="15077" y="10984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732560" y="3833640"/>
                <a:ext cx="299520" cy="387360"/>
                <a:chOff x="4732560" y="3833640"/>
                <a:chExt cx="299520" cy="3873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40120" y="3833640"/>
                  <a:ext cx="285480" cy="2854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85480"/>
                    <a:gd name="textAreaBottom" fmla="*/ 28584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825" y="10500"/>
                      </a:moveTo>
                      <a:arcTo wR="-6981" hR="-6981" stAng="-10652231" swAng="-10947769"/>
                      <a:lnTo>
                        <a:pt x="0" y="10800"/>
                      </a:lnTo>
                      <a:arcTo wR="10800" hR="10800" stAng="10800000" swAng="10947769"/>
                      <a:lnTo>
                        <a:pt x="24288" y="11380"/>
                      </a:lnTo>
                      <a:lnTo>
                        <a:pt x="19484" y="15787"/>
                      </a:lnTo>
                      <a:lnTo>
                        <a:pt x="15077" y="10984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0626600">
                  <a:off x="4739400" y="3928320"/>
                  <a:ext cx="285480" cy="2854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85480"/>
                    <a:gd name="textAreaBottom" fmla="*/ 28584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825" y="10500"/>
                      </a:moveTo>
                      <a:arcTo wR="-6981" hR="-6981" stAng="-10652231" swAng="-10947769"/>
                      <a:lnTo>
                        <a:pt x="0" y="10800"/>
                      </a:lnTo>
                      <a:arcTo wR="10800" hR="10800" stAng="10800000" swAng="10947769"/>
                      <a:lnTo>
                        <a:pt x="24288" y="11380"/>
                      </a:lnTo>
                      <a:lnTo>
                        <a:pt x="19484" y="15787"/>
                      </a:lnTo>
                      <a:lnTo>
                        <a:pt x="15077" y="10984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654520" y="2538360"/>
                <a:ext cx="1143000" cy="865080"/>
                <a:chOff x="5654520" y="2538360"/>
                <a:chExt cx="1143000" cy="865080"/>
              </a:xfrm>
            </p:grpSpPr>
            <p:pic>
              <p:nvPicPr>
                <p:cNvPr id="18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4520" y="2538360"/>
                  <a:ext cx="114300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yrami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35400" y="2690640"/>
                  <a:ext cx="2286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9" name=""/>
              <p:cNvGrpSpPr/>
              <p:nvPr/>
            </p:nvGrpSpPr>
            <p:grpSpPr>
              <a:xfrm>
                <a:off x="5654520" y="3681360"/>
                <a:ext cx="1143000" cy="865080"/>
                <a:chOff x="5654520" y="3681360"/>
                <a:chExt cx="1143000" cy="865080"/>
              </a:xfrm>
            </p:grpSpPr>
            <p:pic>
              <p:nvPicPr>
                <p:cNvPr id="1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654520" y="3681360"/>
                  <a:ext cx="114300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yrami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35400" y="3833640"/>
                  <a:ext cx="2286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192" name=""/>
              <p:cNvCxnSpPr>
                <a:stCxn id="174" idx="4"/>
                <a:endCxn id="182" idx="0"/>
              </p:cNvCxnSpPr>
              <p:nvPr/>
            </p:nvCxnSpPr>
            <p:spPr>
              <a:xfrm>
                <a:off x="4038120" y="3033720"/>
                <a:ext cx="665640" cy="18000"/>
              </a:xfrm>
              <a:prstGeom prst="straightConnector1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</p:cxnSp>
          <p:cxnSp>
            <p:nvCxnSpPr>
              <p:cNvPr id="193" name=""/>
              <p:cNvCxnSpPr>
                <a:stCxn id="174" idx="4"/>
                <a:endCxn id="185" idx="0"/>
              </p:cNvCxnSpPr>
              <p:nvPr/>
            </p:nvCxnSpPr>
            <p:spPr>
              <a:xfrm>
                <a:off x="4038120" y="3033360"/>
                <a:ext cx="665640" cy="1038600"/>
              </a:xfrm>
              <a:prstGeom prst="straightConnector1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</p:cxnSp>
          <p:cxnSp>
            <p:nvCxnSpPr>
              <p:cNvPr id="194" name=""/>
              <p:cNvCxnSpPr>
                <a:stCxn id="182" idx="1"/>
                <a:endCxn id="187" idx="1"/>
              </p:cNvCxnSpPr>
              <p:nvPr/>
            </p:nvCxnSpPr>
            <p:spPr>
              <a:xfrm flipV="1">
                <a:off x="4998600" y="2971080"/>
                <a:ext cx="656640" cy="75240"/>
              </a:xfrm>
              <a:prstGeom prst="straightConnector1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</p:cxnSp>
          <p:cxnSp>
            <p:nvCxnSpPr>
              <p:cNvPr id="195" name=""/>
              <p:cNvCxnSpPr>
                <a:stCxn id="185" idx="1"/>
                <a:endCxn id="190" idx="1"/>
              </p:cNvCxnSpPr>
              <p:nvPr/>
            </p:nvCxnSpPr>
            <p:spPr>
              <a:xfrm>
                <a:off x="4998600" y="4065120"/>
                <a:ext cx="656640" cy="50040"/>
              </a:xfrm>
              <a:prstGeom prst="straightConnector1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5654520" y="4824360"/>
              <a:ext cx="1143000" cy="865080"/>
              <a:chOff x="5654520" y="4824360"/>
              <a:chExt cx="1143000" cy="865080"/>
            </a:xfrm>
          </p:grpSpPr>
          <p:pic>
            <p:nvPicPr>
              <p:cNvPr id="19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4520" y="4824360"/>
                <a:ext cx="1143000" cy="86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yramid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35400" y="4976640"/>
                <a:ext cx="228600" cy="14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9" name=""/>
          <p:cNvGrpSpPr/>
          <p:nvPr/>
        </p:nvGrpSpPr>
        <p:grpSpPr>
          <a:xfrm>
            <a:off x="4038120" y="3047760"/>
            <a:ext cx="1616760" cy="2255400"/>
            <a:chOff x="4038120" y="3047760"/>
            <a:chExt cx="1616760" cy="2255400"/>
          </a:xfrm>
        </p:grpSpPr>
        <p:grpSp>
          <p:nvGrpSpPr>
            <p:cNvPr id="200" name=""/>
            <p:cNvGrpSpPr/>
            <p:nvPr/>
          </p:nvGrpSpPr>
          <p:grpSpPr>
            <a:xfrm>
              <a:off x="4732920" y="4914720"/>
              <a:ext cx="299520" cy="388440"/>
              <a:chOff x="4732920" y="4914720"/>
              <a:chExt cx="299520" cy="388440"/>
            </a:xfrm>
          </p:grpSpPr>
          <p:sp>
            <p:nvSpPr>
              <p:cNvPr id="201" name=""/>
              <p:cNvSpPr/>
              <p:nvPr/>
            </p:nvSpPr>
            <p:spPr>
              <a:xfrm>
                <a:off x="4740120" y="4914720"/>
                <a:ext cx="285480" cy="28584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0626600">
                <a:off x="4739760" y="5010120"/>
                <a:ext cx="285480" cy="28584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cxnSp>
          <p:nvCxnSpPr>
            <p:cNvPr id="203" name=""/>
            <p:cNvCxnSpPr>
              <a:stCxn id="174" idx="4"/>
              <a:endCxn id="202" idx="0"/>
            </p:cNvCxnSpPr>
            <p:nvPr/>
          </p:nvCxnSpPr>
          <p:spPr>
            <a:xfrm>
              <a:off x="4038120" y="3047760"/>
              <a:ext cx="665640" cy="210564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202" idx="1"/>
              <a:endCxn id="197" idx="1"/>
            </p:cNvCxnSpPr>
            <p:nvPr/>
          </p:nvCxnSpPr>
          <p:spPr>
            <a:xfrm>
              <a:off x="4998600" y="5146200"/>
              <a:ext cx="656640" cy="12636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79C-F274-419C-8AF1-A664CD308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Pyramid Databas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es JDBC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be used with any database via a native JDBC driver or through the JDBC-ODBC bridg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ersists information on: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sers and Group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ackage request and their statu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cheduled send even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udit log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ata is viewable and editable (</a:t>
            </a:r>
            <a:r>
              <a:rPr b="1" lang="en-US" sz="2200" spc="-1" strike="noStrike" u="sng">
                <a:solidFill>
                  <a:srgbClr val="ffcc66"/>
                </a:solidFill>
                <a:uFillTx/>
                <a:latin typeface="Arial"/>
              </a:rPr>
              <a:t>please don’t!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) through any relational query too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F46-2173-46DB-9C9D-AF28B4F7D9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p 10 New Words For The 90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10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M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9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lug and pla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8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eatur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7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ercussive Maintenan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6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EBCAK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agull Manager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Ohno Secon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Beepileps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ssmosi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Blamestorming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0EA-722B-48E1-9638-F0EE073DA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xampl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Server oriented push of core applica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andatory packages that contain core business applica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uses Pyramid inventory and verification features to ensure proper installation of latest apps on client machin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Client oriented pull of optional cont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istribution of variety of optional content that clients can decide to accep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Distribution of applications or fixes over the Interne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un Pyramid on a server that can be accessed over the Interne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E04-18B6-4F0E-AD11-D4102B50F4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Deployment Patter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292480" cy="149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33920" y="30481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400000">
            <a:off x="2225880" y="356472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800" y="36867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bsydi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560" y="464724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yramid serv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52880" y="1371600"/>
            <a:ext cx="3924720" cy="5105520"/>
            <a:chOff x="4952880" y="1371600"/>
            <a:chExt cx="3924720" cy="5105520"/>
          </a:xfrm>
        </p:grpSpPr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5562720" y="1371600"/>
              <a:ext cx="1143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7467480" y="3124080"/>
              <a:ext cx="1143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6"/>
            <a:stretch/>
          </p:blipFill>
          <p:spPr>
            <a:xfrm>
              <a:off x="5715000" y="4876920"/>
              <a:ext cx="1143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4952880" y="3276720"/>
              <a:ext cx="178776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552720" y="1827360"/>
              <a:ext cx="232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Pyramid server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and clien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828800" y="2438280"/>
            <a:ext cx="341280" cy="331920"/>
          </a:xfrm>
          <a:prstGeom prst="rect">
            <a:avLst/>
          </a:prstGeom>
          <a:ln w="0">
            <a:noFill/>
          </a:ln>
        </p:spPr>
      </p:pic>
      <p:pic>
        <p:nvPicPr>
          <p:cNvPr id="222" name="pyramid" descr=""/>
          <p:cNvPicPr/>
          <p:nvPr/>
        </p:nvPicPr>
        <p:blipFill>
          <a:blip r:embed="rId9"/>
          <a:stretch/>
        </p:blipFill>
        <p:spPr>
          <a:xfrm>
            <a:off x="3809880" y="3809880"/>
            <a:ext cx="685800" cy="441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FC2-524F-4D5C-9E70-44E171DAC3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Change Manage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romotion and distribution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2286000"/>
            <a:ext cx="1981080" cy="16765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o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3581280"/>
            <a:ext cx="1981080" cy="15242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QA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724280"/>
            <a:ext cx="1981080" cy="15242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25859" t="24469" r="25767" b="24375"/>
          <a:stretch/>
        </p:blipFill>
        <p:spPr>
          <a:xfrm>
            <a:off x="457200" y="22096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43400" y="3276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130-BCCD-45D4-95C0-492B78175A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1143000"/>
            <a:ext cx="2362320" cy="182880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175284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Change Manage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657600" y="426708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504960" y="58662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yramid serv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pyramid" descr=""/>
          <p:cNvPicPr/>
          <p:nvPr/>
        </p:nvPicPr>
        <p:blipFill>
          <a:blip r:embed="rId4"/>
          <a:stretch/>
        </p:blipFill>
        <p:spPr>
          <a:xfrm>
            <a:off x="3733920" y="5181480"/>
            <a:ext cx="685800" cy="441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85800" y="4343400"/>
            <a:ext cx="1066680" cy="144792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1066680" y="5105520"/>
            <a:ext cx="341280" cy="331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193640" y="114156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ynon and 3rd Par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hange Mgmt Too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8900000">
            <a:off x="1523520" y="3581280"/>
            <a:ext cx="914400" cy="365400"/>
          </a:xfrm>
          <a:prstGeom prst="leftRightArrow">
            <a:avLst>
              <a:gd name="adj1" fmla="val 50000"/>
              <a:gd name="adj2" fmla="val 49817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700000">
            <a:off x="3306240" y="3551040"/>
            <a:ext cx="914400" cy="365400"/>
          </a:xfrm>
          <a:prstGeom prst="leftRightArrow">
            <a:avLst>
              <a:gd name="adj1" fmla="val 50000"/>
              <a:gd name="adj2" fmla="val 49817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ArchitectingSuccess_home" descr=""/>
          <p:cNvPicPr/>
          <p:nvPr/>
        </p:nvPicPr>
        <p:blipFill>
          <a:blip r:embed="rId6"/>
          <a:stretch/>
        </p:blipFill>
        <p:spPr>
          <a:xfrm>
            <a:off x="1676520" y="1371600"/>
            <a:ext cx="236196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91800" y="5713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bsydi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7238880" y="3962520"/>
            <a:ext cx="1295640" cy="1058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4648320" y="4191120"/>
            <a:ext cx="198108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19480" y="258948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yramid server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and clien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15-6DEF-42C3-A00B-F68B625453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And Change Manage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76560" y="1523880"/>
            <a:ext cx="3579120" cy="1833120"/>
            <a:chOff x="376560" y="1523880"/>
            <a:chExt cx="3579120" cy="1833120"/>
          </a:xfrm>
        </p:grpSpPr>
        <p:grpSp>
          <p:nvGrpSpPr>
            <p:cNvPr id="250" name=""/>
            <p:cNvGrpSpPr/>
            <p:nvPr/>
          </p:nvGrpSpPr>
          <p:grpSpPr>
            <a:xfrm>
              <a:off x="376560" y="1523880"/>
              <a:ext cx="2675520" cy="1388520"/>
              <a:chOff x="376560" y="1523880"/>
              <a:chExt cx="2675520" cy="1388520"/>
            </a:xfrm>
          </p:grpSpPr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1523880"/>
                <a:ext cx="99540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76560" y="2208600"/>
                <a:ext cx="267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66"/>
                    </a:solidFill>
                    <a:latin typeface="Times New Roman"/>
                  </a:rPr>
                  <a:t>Package with ‘backup’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66"/>
                    </a:solidFill>
                    <a:latin typeface="Times New Roman"/>
                  </a:rPr>
                  <a:t>attribute set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rot="1893000">
              <a:off x="2971800" y="2819160"/>
              <a:ext cx="976320" cy="304560"/>
            </a:xfrm>
            <a:prstGeom prst="rightArrow">
              <a:avLst>
                <a:gd name="adj1" fmla="val 50000"/>
                <a:gd name="adj2" fmla="val 80142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6629400" y="4495680"/>
          <a:ext cx="79056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4495680"/>
                    <a:ext cx="7905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 rot="1893000">
            <a:off x="5333760" y="4114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16880" y="3656520"/>
            <a:ext cx="15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ld packag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gets zipp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809880" y="2895480"/>
            <a:ext cx="1295640" cy="1059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46960" y="208656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ew packag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nstalled on cli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3120" y="4040280"/>
            <a:ext cx="3180240" cy="1920240"/>
            <a:chOff x="303120" y="4040280"/>
            <a:chExt cx="3180240" cy="1920240"/>
          </a:xfrm>
        </p:grpSpPr>
        <p:grpSp>
          <p:nvGrpSpPr>
            <p:cNvPr id="261" name=""/>
            <p:cNvGrpSpPr/>
            <p:nvPr/>
          </p:nvGrpSpPr>
          <p:grpSpPr>
            <a:xfrm>
              <a:off x="978480" y="4876920"/>
              <a:ext cx="541440" cy="674280"/>
              <a:chOff x="978480" y="4876920"/>
              <a:chExt cx="541440" cy="674280"/>
            </a:xfrm>
          </p:grpSpPr>
          <p:sp>
            <p:nvSpPr>
              <p:cNvPr id="262" name=""/>
              <p:cNvSpPr/>
              <p:nvPr/>
            </p:nvSpPr>
            <p:spPr>
              <a:xfrm>
                <a:off x="990720" y="4876920"/>
                <a:ext cx="516960" cy="4960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626600">
                <a:off x="990720" y="5042520"/>
                <a:ext cx="516960" cy="4960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25" y="10500"/>
                    </a:moveTo>
                    <a:arcTo wR="-6981" hR="-6981" stAng="-10652231" swAng="-10947769"/>
                    <a:lnTo>
                      <a:pt x="0" y="10800"/>
                    </a:lnTo>
                    <a:arcTo wR="10800" hR="10800" stAng="10800000" swAng="10947769"/>
                    <a:lnTo>
                      <a:pt x="24288" y="11380"/>
                    </a:lnTo>
                    <a:lnTo>
                      <a:pt x="19484" y="15787"/>
                    </a:lnTo>
                    <a:lnTo>
                      <a:pt x="15077" y="10984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03120" y="5561640"/>
              <a:ext cx="202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Times New Roman"/>
                </a:rPr>
                <a:t>Rollback request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137800">
              <a:off x="1599840" y="4419720"/>
              <a:ext cx="1905120" cy="304560"/>
            </a:xfrm>
            <a:prstGeom prst="rightArrow">
              <a:avLst>
                <a:gd name="adj1" fmla="val 50000"/>
                <a:gd name="adj2" fmla="val 11051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350880" y="396144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ew packag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deleted on cli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265360" y="4433760"/>
            <a:ext cx="2973600" cy="1603080"/>
            <a:chOff x="5265360" y="4433760"/>
            <a:chExt cx="2973600" cy="1603080"/>
          </a:xfrm>
        </p:grpSpPr>
        <p:sp>
          <p:nvSpPr>
            <p:cNvPr id="268" name=""/>
            <p:cNvSpPr/>
            <p:nvPr/>
          </p:nvSpPr>
          <p:spPr>
            <a:xfrm rot="12643800">
              <a:off x="5257440" y="4723920"/>
              <a:ext cx="1219320" cy="304920"/>
            </a:xfrm>
            <a:prstGeom prst="rightArrow">
              <a:avLst>
                <a:gd name="adj1" fmla="val 50000"/>
                <a:gd name="adj2" fmla="val 70646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64600" y="5333040"/>
              <a:ext cx="167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Times New Roman"/>
                </a:rPr>
                <a:t>Old packag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Times New Roman"/>
                </a:rPr>
                <a:t>gets unzipped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B17-3127-481E-8F64-A213876E6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Fu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JDK 1.2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rag and drop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mproved performan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will continue to be enhance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ditional auditing featur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ore control over placement of packages on client machin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nfluence Pyramid features - email your suggestions to: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yramidTeam@synon.c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ighter integration with Change Managem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yramid will remain simple to u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17E-4B7C-4743-916D-0DF4DD5B18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ne Tool For All Your Platform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100% Pure Java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tilizes Java serialization for easy network transfer over TCP/IP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rver side data persisted via JDBC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ent side data uses object persisten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ulti-threaded to manage network loa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JFC interfac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akes use of multiple look and feel interfac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4F2-705B-4918-AE02-95D5845491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onclus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is a simple solution to a complex problem”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509-FF56-4E86-8C30-3078AFF886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estions…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o thinks that they have a use for Pyramid?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ested in being a beta site or have any suggestions? Email: PyramidTeam@synon.c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CF0-D6BF-4AEB-A0D7-031F601DBC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est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o needs a tool to help with application deployment?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o needs to deploy across multiple operating systems?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o has people on their team spending too much time deploying applications?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BE5-8344-45E5-8E4C-7CB7DE927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ession Overview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o What Is Pyramid?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Concepts And Featur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And Obsydian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And The AS/400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utur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yramid And Change Managem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8B6-923D-4921-B209-DB0C12AE1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590920" y="2971800"/>
            <a:ext cx="1904760" cy="1274760"/>
            <a:chOff x="2590920" y="2971800"/>
            <a:chExt cx="1904760" cy="12747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657600" y="3581280"/>
              <a:ext cx="83808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09880" y="2971800"/>
              <a:ext cx="5176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590920" y="3505320"/>
              <a:ext cx="1295280" cy="180720"/>
            </a:xfrm>
            <a:prstGeom prst="rightArrow">
              <a:avLst>
                <a:gd name="adj1" fmla="val 50000"/>
                <a:gd name="adj2" fmla="val 179183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70840" y="3123720"/>
              <a:ext cx="11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o What Is Pyramid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38880" y="1981080"/>
            <a:ext cx="1600200" cy="1211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1468440" cy="1735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324480" y="5105520"/>
            <a:ext cx="125424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095880" y="1219320"/>
            <a:ext cx="1067040" cy="105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64520" y="4723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AS/400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5440" y="14468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Windows 95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9840" y="31993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Windows 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9480" y="2284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600" y="2666880"/>
            <a:ext cx="2438280" cy="2516040"/>
            <a:chOff x="228600" y="2666880"/>
            <a:chExt cx="2438280" cy="2516040"/>
          </a:xfrm>
        </p:grpSpPr>
        <p:pic>
          <p:nvPicPr>
            <p:cNvPr id="118" name="" descr=""/>
            <p:cNvPicPr/>
            <p:nvPr/>
          </p:nvPicPr>
          <p:blipFill>
            <a:blip r:embed="rId8"/>
            <a:srcRect l="7507" t="15571" r="39110" b="19926"/>
            <a:stretch/>
          </p:blipFill>
          <p:spPr>
            <a:xfrm>
              <a:off x="228600" y="2666880"/>
              <a:ext cx="243828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04920" y="4723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Obsydian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076280" y="1747080"/>
            <a:ext cx="3162960" cy="4082400"/>
            <a:chOff x="4076280" y="1747080"/>
            <a:chExt cx="3162960" cy="4082400"/>
          </a:xfrm>
        </p:grpSpPr>
        <p:cxnSp>
          <p:nvCxnSpPr>
            <p:cNvPr id="121" name=""/>
            <p:cNvCxnSpPr>
              <a:stCxn id="104" idx="0"/>
              <a:endCxn id="112" idx="1"/>
            </p:cNvCxnSpPr>
            <p:nvPr/>
          </p:nvCxnSpPr>
          <p:spPr>
            <a:xfrm flipV="1">
              <a:off x="4076280" y="1747080"/>
              <a:ext cx="2019960" cy="18342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04" idx="0"/>
              <a:endCxn id="109" idx="1"/>
            </p:cNvCxnSpPr>
            <p:nvPr/>
          </p:nvCxnSpPr>
          <p:spPr>
            <a:xfrm flipV="1">
              <a:off x="4076640" y="2587680"/>
              <a:ext cx="3162960" cy="99396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4" idx="0"/>
              <a:endCxn id="110" idx="1"/>
            </p:cNvCxnSpPr>
            <p:nvPr/>
          </p:nvCxnSpPr>
          <p:spPr>
            <a:xfrm>
              <a:off x="4076280" y="3581280"/>
              <a:ext cx="2477160" cy="41184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04" idx="0"/>
              <a:endCxn id="111" idx="1"/>
            </p:cNvCxnSpPr>
            <p:nvPr/>
          </p:nvCxnSpPr>
          <p:spPr>
            <a:xfrm>
              <a:off x="4076640" y="3580920"/>
              <a:ext cx="2248560" cy="224892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 rot="19047600">
              <a:off x="4651920" y="228564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74800">
              <a:off x="5096880" y="2819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LAN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68200">
              <a:off x="5259240" y="350496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WAN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556600">
              <a:off x="4955040" y="441936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TCP/IP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1280" y="990720"/>
            <a:ext cx="5410440" cy="5638680"/>
            <a:chOff x="3581280" y="990720"/>
            <a:chExt cx="5410440" cy="5638680"/>
          </a:xfrm>
        </p:grpSpPr>
        <p:sp>
          <p:nvSpPr>
            <p:cNvPr id="130" name=""/>
            <p:cNvSpPr/>
            <p:nvPr/>
          </p:nvSpPr>
          <p:spPr>
            <a:xfrm>
              <a:off x="3581280" y="990720"/>
              <a:ext cx="5410440" cy="5638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131" name="pyramid" descr=""/>
            <p:cNvPicPr/>
            <p:nvPr/>
          </p:nvPicPr>
          <p:blipFill>
            <a:blip r:embed="rId9"/>
            <a:stretch/>
          </p:blipFill>
          <p:spPr>
            <a:xfrm>
              <a:off x="3733920" y="1143000"/>
              <a:ext cx="990360" cy="6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05B-4584-472D-8FA4-B31273279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o What Is Pyramid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Deployment Too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entral administration of end-user applica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ent inventor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pplication verification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llows applications to be pushed over the network to client machin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pplications can be Obsydian generated applica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pecifically developed to deploy applications but can deploy any type of cont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But best of all - Pyramid is a brew-pub in Berkele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183-770F-4D46-9761-E2E4FBEEF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Concep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Packag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irectory of files to be delivere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andatory/Optional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Whether client has to accept packag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Overwrite/Backup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f package exists on target machin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ystem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iles get placed in ‘System’ directory on the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Executabl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File to be executed once delivery is complete e.g. setup.ex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99540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276-9086-4825-96DF-B96C1A8EF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Concep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emote machine running Pyramid client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lient list can be populated automatically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dministrator does not have to individually create clien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onnect to server on startup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olls at a user-defined interval until server is available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Updates information in server database once connected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Disconnects and waits for package notification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be added to packages and group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914400" cy="7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39C-668E-402E-8E11-E125E9FEB2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yramid Concep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Group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ontainer of client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n be added to packages</a:t>
            </a:r>
            <a:endParaRPr b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914400" cy="7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CE3-36F6-40D3-9B17-C50DF56845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06:27:43Z</dcterms:created>
  <dc:creator>Whittman-Hart</dc:creator>
  <dc:description/>
  <dc:language>en-US</dc:language>
  <cp:lastModifiedBy>Mike Cahill</cp:lastModifiedBy>
  <cp:lastPrinted>1998-04-30T14:01:21Z</cp:lastPrinted>
  <dcterms:modified xsi:type="dcterms:W3CDTF">1998-05-07T02:02:51Z</dcterms:modified>
  <cp:revision>93</cp:revision>
  <dc:subject/>
  <dc:title>Java - Beyond the Hype</dc:title>
</cp:coreProperties>
</file>