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B066-C8EB-4CFF-A9FC-D110A0E609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4396-F1C2-4602-9985-3EC4A890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E027-8229-44C9-9933-4F2F3A1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F1B5-E40C-40BF-B942-D76C923146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A84F-E488-4F40-A6FC-90B48851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DEBC-5E22-47F5-9860-933CA444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3106-0031-455E-8FB2-3BC87628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73BA-3751-41DB-A8AC-980C781F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C7E4-BA86-43BF-8DA2-5E52D01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B60F-10A2-46CC-9A0F-6152E348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89DA-BF73-4BF5-A20D-AFD0826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1580-486B-45CF-9C0C-6C01EA95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70536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81520" y="670536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341-5CC2-4BE1-9375-DC07739CA187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1998 Synon, Inc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9064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11240" y="5715000"/>
          <a:ext cx="275724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572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74960" y="1154160"/>
            <a:ext cx="7022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2082960" y="1212840"/>
            <a:ext cx="6808680" cy="277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he AS400 and the Interne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rek H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rector, Synon/2E Develop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hall@synon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HTML v Java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219320"/>
            <a:ext cx="6705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yper Text Markup Languag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rsu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ynamic HTML &amp; Active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rsu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Java, Java, Java!!!!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is a Web Server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129528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erver is a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compu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holds or stores the files for a company, location or applic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505320"/>
            <a:ext cx="649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Web server is the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softw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resides on a server and will distribute these files, usually at the request of a remote client using a Web brows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3 Different types of Web Serv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atic Web ser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e HTM L p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include graphics, video, Java objec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ynamic Web ser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ually use HTML with CG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GI - Common Gateway Interfa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llow programmatic interface between HTML and databa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tributed Web-based proces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ually associated with Java distribu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ynon/TC an excellent examp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Overview of Web Server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23" name="web2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391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’s next - security of course!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security ris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avesdrop on a communications lin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reak into a ser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squerade as a legitimate cli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squerade as a legitimate serv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ange data on the comms lin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Too much - what should I worry about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812960" y="1488960"/>
            <a:ext cx="534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of course it depends - what is the value of your data?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352680"/>
            <a:ext cx="664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he only way to keep your computer data completely safe from outside attack is NOT to connect you computer to the Internet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But I’ve got to communicate!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rewal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solate internal network from 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llows only specific connections to pas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BM Firewall software runs on an IPCS (Integrated PC server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ure Serv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SL - Secure Sockets Lay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s:\\………’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s encryption - 40 or 128 byte ke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ublic &amp; Private Key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523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ry e-mails Ian asking for ID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2438280"/>
            <a:ext cx="2819520" cy="9144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8640" y="308916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an receives e-mail and signs it with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IVATE K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560" y="4648320"/>
            <a:ext cx="2895480" cy="106668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952880"/>
            <a:ext cx="20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ry verifies signature with Ian’s PUBLIC k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ertificates and Signatur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gital Certificat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05080" indent="-194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rver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777240" indent="-1551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ves where a download comes fr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05080" indent="-194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777240" indent="-1551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ves to server the correct identity of data recipi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3280" indent="-2332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505080" indent="-1940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erify identity of  sender of e-mail and secures contents through encry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649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Use Public / Private key technology to prove identity - company or individual - over the Interne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rivate Network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736640" y="1488960"/>
            <a:ext cx="58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d to minimize security risks and speed up communication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46760" y="3306600"/>
            <a:ext cx="48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Virtual Private Networ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4267080"/>
            <a:ext cx="580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e a private network over a public network with the use of encryption and routing co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genda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6880" y="129528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at is  e-Commerce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at’s the Web got to do it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mon Internet ter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You’ve got the app - now what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y the AS400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23160" y="2495520"/>
            <a:ext cx="401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Practic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utting the theory into practice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38862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ll to the public - 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ll to major chain stores - EX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ccess all internal systems - IN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4640" y="114300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971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nternal System - Order Entry &amp; Stock Contro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1362240" cy="76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629400" y="3733920"/>
            <a:ext cx="1409760" cy="8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023920" cy="1116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7696080" y="5486400"/>
            <a:ext cx="117648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E-Commerce and / or Advertising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ho is the user?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s can be ‘relatively’ utilitaria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ranet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member you need to train your partn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s must be easy to u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47204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with full step by step instructions displayed on the scree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5156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s must be ‘pretty’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472040" indent="-2102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use of graphics, wall papers etc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ere does the data come from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e syste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ilt into HTML p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vanced syste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om an AS400 databa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rect use of CGI (Common Gateway Interface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IBM’s Net.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Synon/TC and don’t worry at 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HTML and CG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ML allows the creation of ‘static’ web p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GI allows database access to dynamically build web p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mon Gateway Interfac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vailable when using IBM HTTP server and oth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use any AS400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bridge through AS400 to any other system for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IBM’s Net.Data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GI is possible but not eas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t.Data from IBM makes it easi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s ‘macros’ to ad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gic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ariab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gram cal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port writing capability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f-Then-Else capa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ynon/TC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utomatically generate web applications from your Synon/2E applic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asily create and enhance you GUI display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Quick to deploy without re-training in Java or CG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sort of Network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pplication must be available to the publ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till use secure servers and third party credit / smart card validation for secur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w critical is speed and secur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der Private Network or Virtual Private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st incre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bably existing intern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sort of Security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most peop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rewall software to connect company intranet to 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secure servers - htt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certificates - both server and cli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third party verification of payments (if necessary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760" y="5334120"/>
            <a:ext cx="76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se fully supported on the AS400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sort of Hardware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9840" y="16761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stimate of number of Us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84360" y="3013200"/>
            <a:ext cx="55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hen buy an AS400 which you know is fully scaleable for the futur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20960" y="2530440"/>
            <a:ext cx="375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Theor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nd that’s all there is to it!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1831680" y="2057400"/>
            <a:ext cx="53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still overwhelming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3800" y="3657600"/>
            <a:ext cx="38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hope no longer!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Major Internet Term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 rot="2154000">
            <a:off x="980280" y="19206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Jav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25800">
            <a:off x="2820960" y="4571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0424600">
            <a:off x="4953960" y="259056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Dynamic HTM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084400">
            <a:off x="3962160" y="19047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eb Serv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75200">
            <a:off x="4494600" y="401652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Web Brows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8251400">
            <a:off x="1281600" y="5527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Times New Roman"/>
              </a:rPr>
              <a:t>ActiveX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319600">
            <a:off x="3507120" y="5716080"/>
            <a:ext cx="22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va Bean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6200" y="377496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ipt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2640600">
            <a:off x="6767280" y="15645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2240" y="30891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TTP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660600">
            <a:off x="5960160" y="492300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Certificat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662200">
            <a:off x="533520" y="373356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Digital Signatur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3114000">
            <a:off x="2336400" y="2005920"/>
            <a:ext cx="16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wall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is e-Commerce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undant communications for al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 the Net protocol (TCP/IP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al - In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siness Partners - Extra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nybody / Everybody - Interne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e We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roduction of th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nables use of the ‘net’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of any other communications protoco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is a Web Browser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914400"/>
          <a:ext cx="7543800" cy="56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1440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hases of Web usage (1)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6324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atic Web p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vertis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ynamic Web pag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tion (Cookies?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GI integration to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hases of Web usage (2)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680" y="1447560"/>
            <a:ext cx="5181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llabo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ums (Synposium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duct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at / Video suppor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usiness Integ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shopp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bank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lly integrated syste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What else does a Web Browser do?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990720"/>
          <a:ext cx="7332840" cy="54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733284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erek Hall</cp:lastModifiedBy>
  <dcterms:modified xsi:type="dcterms:W3CDTF">1998-04-30T16:15:16Z</dcterms:modified>
  <cp:revision>10</cp:revision>
  <dc:subject/>
  <dc:title>The AS400 and the Internet</dc:title>
</cp:coreProperties>
</file>