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4378-6B28-4169-BF3D-B12F29B88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120" y="4107240"/>
            <a:ext cx="8077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F7F8-D99D-4972-9D39-F374904ED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48400" y="15998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120" y="41072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48400" y="41072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9797-28FC-4FCC-A74A-FC2B855C0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0080" y="15998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1400" y="15998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120" y="41072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0080" y="41072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1400" y="41072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CA9E-B470-4BCB-901F-13CC23019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8400" y="15998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4160" y="0"/>
            <a:ext cx="90680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8400" y="15998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120" y="41072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E23A-7D35-4602-B189-B2F7A3796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8400" y="15998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8400" y="41072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8400" y="15998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120" y="4107240"/>
            <a:ext cx="8077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09120" y="4107240"/>
            <a:ext cx="8077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8400" y="15998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120" y="41072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8400" y="41072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40080" y="15998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1400" y="15998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09120" y="41072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40080" y="41072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1400" y="41072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AE90-AD33-4DFC-8C2E-F368C1846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8400" y="15998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7C09-281F-4136-A0FD-FADDE8A8E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72E2-FA0F-4D5B-A447-CFEE91762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4160" y="0"/>
            <a:ext cx="90680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FB3D-3048-4066-ACF9-D48B56878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8400" y="15998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120" y="41072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E2D6-B949-40F8-A679-6D3D9EAE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8400" y="15998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48400" y="41072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06F3-50F6-4AFA-98FA-59E86066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8400" y="15998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120" y="4107240"/>
            <a:ext cx="8077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56C9-9ADE-474B-9BCD-6F00BD91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86600" y="6705360"/>
            <a:ext cx="1217520" cy="15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cc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cc66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17360" y="6703920"/>
            <a:ext cx="4040280" cy="1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cc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cc66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1520" y="6705360"/>
            <a:ext cx="760680" cy="15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cc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3B70C-D274-4FE5-92C8-341D6214FDC1}" type="slidenum">
              <a:rPr b="0" lang="en-US" sz="900" spc="-1" strike="noStrike">
                <a:solidFill>
                  <a:srgbClr val="ffcc6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33480" y="6667560"/>
            <a:ext cx="29084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cc66"/>
                </a:solidFill>
                <a:latin typeface="Arial"/>
              </a:rPr>
              <a:t>©1998 SYNON</a:t>
            </a:r>
            <a:endParaRPr b="0" lang="en-US" sz="9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90640" cy="266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111240" y="5715000"/>
          <a:ext cx="2757240" cy="1031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1240" y="5715000"/>
                    <a:ext cx="275724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457200" indent="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2" marL="914400" algn="ctr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3" marL="1371600" algn="ctr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lvl="4" marL="1828800" algn="ctr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6.png"/><Relationship Id="rId26" Type="http://schemas.openxmlformats.org/officeDocument/2006/relationships/image" Target="../media/image6.png"/><Relationship Id="rId2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Learnability and Obsydian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599840" y="3886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Daniel Leigh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dgl@synon.com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Learning Technologies Team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Obsydian Development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New Pattern Libraries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693432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More modular building blocks - </a:t>
            </a:r>
            <a:r>
              <a:rPr b="1" i="1" lang="en-US" sz="2400" spc="-1" strike="noStrike">
                <a:solidFill>
                  <a:srgbClr val="ffcc66"/>
                </a:solidFill>
                <a:latin typeface="Arial"/>
              </a:rPr>
              <a:t>easier to understand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8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84400" indent="-2844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Better presentation - </a:t>
            </a:r>
            <a:r>
              <a:rPr b="1" i="1" lang="en-US" sz="2400" spc="-1" strike="noStrike">
                <a:solidFill>
                  <a:srgbClr val="ffcc66"/>
                </a:solidFill>
                <a:latin typeface="Arial"/>
              </a:rPr>
              <a:t>revised naming conventions, new facilities to locate pattern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8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84400" indent="-2844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Backed up with improved documentation and sample model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8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8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Documentation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and online training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The Synon Documentation 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Methodology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52280" y="1676520"/>
            <a:ext cx="8991720" cy="2914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62120" y="5029200"/>
            <a:ext cx="7238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cc66"/>
                </a:solidFill>
                <a:latin typeface="Arial Black"/>
              </a:rPr>
              <a:t>NOT!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New Team, Old Challenges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The Team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rning Technologies, a group of technical writers and course developer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The Challenge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ducing the learning curv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eping pace with release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 Black"/>
              </a:rPr>
              <a:t>3.1 Manuals</a:t>
            </a:r>
            <a:br>
              <a:rPr sz="3200"/>
            </a:br>
            <a:r>
              <a:rPr b="0" lang="en-US" sz="3200" spc="-1" strike="noStrike">
                <a:solidFill>
                  <a:srgbClr val="ffcc66"/>
                </a:solidFill>
                <a:latin typeface="Arial Black"/>
              </a:rPr>
              <a:t>2000+ pages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209680" y="2971800"/>
            <a:ext cx="6934320" cy="2590560"/>
            <a:chOff x="2209680" y="2971800"/>
            <a:chExt cx="6934320" cy="2590560"/>
          </a:xfrm>
        </p:grpSpPr>
        <p:grpSp>
          <p:nvGrpSpPr>
            <p:cNvPr id="123" name=""/>
            <p:cNvGrpSpPr/>
            <p:nvPr/>
          </p:nvGrpSpPr>
          <p:grpSpPr>
            <a:xfrm>
              <a:off x="6807240" y="2971800"/>
              <a:ext cx="2336760" cy="2590560"/>
              <a:chOff x="6807240" y="2971800"/>
              <a:chExt cx="2336760" cy="2590560"/>
            </a:xfrm>
          </p:grpSpPr>
          <p:pic>
            <p:nvPicPr>
              <p:cNvPr id="124" name="guide_cover" descr=""/>
              <p:cNvPicPr/>
              <p:nvPr/>
            </p:nvPicPr>
            <p:blipFill>
              <a:blip r:embed="rId2"/>
              <a:stretch/>
            </p:blipFill>
            <p:spPr>
              <a:xfrm>
                <a:off x="6807240" y="2971800"/>
                <a:ext cx="1574640" cy="182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" name="guide_cover" descr=""/>
              <p:cNvPicPr/>
              <p:nvPr/>
            </p:nvPicPr>
            <p:blipFill>
              <a:blip r:embed="rId3"/>
              <a:stretch/>
            </p:blipFill>
            <p:spPr>
              <a:xfrm>
                <a:off x="6959520" y="3124080"/>
                <a:ext cx="1574640" cy="182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" name="guide_cover" descr=""/>
              <p:cNvPicPr/>
              <p:nvPr/>
            </p:nvPicPr>
            <p:blipFill>
              <a:blip r:embed="rId4"/>
              <a:stretch/>
            </p:blipFill>
            <p:spPr>
              <a:xfrm>
                <a:off x="7111800" y="3276360"/>
                <a:ext cx="1575000" cy="182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" name="guide_cover" descr=""/>
              <p:cNvPicPr/>
              <p:nvPr/>
            </p:nvPicPr>
            <p:blipFill>
              <a:blip r:embed="rId5"/>
              <a:stretch/>
            </p:blipFill>
            <p:spPr>
              <a:xfrm>
                <a:off x="7264440" y="3429000"/>
                <a:ext cx="1574640" cy="182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" name="guide_cover" descr=""/>
              <p:cNvPicPr/>
              <p:nvPr/>
            </p:nvPicPr>
            <p:blipFill>
              <a:blip r:embed="rId6"/>
              <a:stretch/>
            </p:blipFill>
            <p:spPr>
              <a:xfrm>
                <a:off x="7416720" y="3581280"/>
                <a:ext cx="1574640" cy="182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" name="guide_cover" descr=""/>
              <p:cNvPicPr/>
              <p:nvPr/>
            </p:nvPicPr>
            <p:blipFill>
              <a:blip r:embed="rId7"/>
              <a:stretch/>
            </p:blipFill>
            <p:spPr>
              <a:xfrm>
                <a:off x="7569000" y="3733560"/>
                <a:ext cx="1575000" cy="1828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0" name="PlaceHolder 2"/>
            <p:cNvSpPr>
              <a:spLocks noGrp="1"/>
            </p:cNvSpPr>
            <p:nvPr>
              <p:ph/>
            </p:nvPr>
          </p:nvSpPr>
          <p:spPr>
            <a:xfrm>
              <a:off x="2209680" y="3809880"/>
              <a:ext cx="373392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10000"/>
                </a:lnSpc>
                <a:spcBef>
                  <a:spcPts val="601"/>
                </a:spcBef>
                <a:buClr>
                  <a:srgbClr val="cc0000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 Platform Guides</a:t>
              </a:r>
              <a:endParaRPr b="1" lang="en-US" sz="24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28600" y="2514600"/>
            <a:ext cx="7543800" cy="3504960"/>
            <a:chOff x="228600" y="2514600"/>
            <a:chExt cx="7543800" cy="3504960"/>
          </a:xfrm>
        </p:grpSpPr>
        <p:grpSp>
          <p:nvGrpSpPr>
            <p:cNvPr id="132" name=""/>
            <p:cNvGrpSpPr/>
            <p:nvPr/>
          </p:nvGrpSpPr>
          <p:grpSpPr>
            <a:xfrm>
              <a:off x="228600" y="4038480"/>
              <a:ext cx="1726920" cy="1981080"/>
              <a:chOff x="228600" y="4038480"/>
              <a:chExt cx="1726920" cy="1981080"/>
            </a:xfrm>
          </p:grpSpPr>
          <p:pic>
            <p:nvPicPr>
              <p:cNvPr id="133" name="guide_cover" descr=""/>
              <p:cNvPicPr/>
              <p:nvPr/>
            </p:nvPicPr>
            <p:blipFill>
              <a:blip r:embed="rId8"/>
              <a:stretch/>
            </p:blipFill>
            <p:spPr>
              <a:xfrm>
                <a:off x="228600" y="4038480"/>
                <a:ext cx="1574640" cy="182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" name="guide_cover" descr=""/>
              <p:cNvPicPr/>
              <p:nvPr/>
            </p:nvPicPr>
            <p:blipFill>
              <a:blip r:embed="rId9"/>
              <a:stretch/>
            </p:blipFill>
            <p:spPr>
              <a:xfrm>
                <a:off x="380880" y="4190760"/>
                <a:ext cx="1574640" cy="1828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5" name=""/>
            <p:cNvSpPr/>
            <p:nvPr/>
          </p:nvSpPr>
          <p:spPr>
            <a:xfrm>
              <a:off x="2286000" y="2514600"/>
              <a:ext cx="54864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79000"/>
            </a:bodyPr>
            <a:p>
              <a:pPr marL="270720" indent="-270720">
                <a:lnSpc>
                  <a:spcPct val="110000"/>
                </a:lnSpc>
                <a:spcBef>
                  <a:spcPts val="601"/>
                </a:spcBef>
                <a:buClr>
                  <a:srgbClr val="cc0000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-volume Class Libraries Guide (900 pages)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304920" y="1981080"/>
            <a:ext cx="6781680" cy="1828800"/>
            <a:chOff x="304920" y="1981080"/>
            <a:chExt cx="6781680" cy="1828800"/>
          </a:xfrm>
        </p:grpSpPr>
        <p:pic>
          <p:nvPicPr>
            <p:cNvPr id="137" name="guide_cover" descr=""/>
            <p:cNvPicPr/>
            <p:nvPr/>
          </p:nvPicPr>
          <p:blipFill>
            <a:blip r:embed="rId10"/>
            <a:stretch/>
          </p:blipFill>
          <p:spPr>
            <a:xfrm>
              <a:off x="304920" y="1981080"/>
              <a:ext cx="15746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2286000" y="1981080"/>
              <a:ext cx="4800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10000"/>
                </a:lnSpc>
                <a:spcBef>
                  <a:spcPts val="601"/>
                </a:spcBef>
                <a:buClr>
                  <a:srgbClr val="cc0000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ser’s Guide (800 pages)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304920" y="0"/>
            <a:ext cx="8458200" cy="2133720"/>
            <a:chOff x="304920" y="0"/>
            <a:chExt cx="8458200" cy="2133720"/>
          </a:xfrm>
        </p:grpSpPr>
        <p:pic>
          <p:nvPicPr>
            <p:cNvPr id="140" name="guide_cover" descr=""/>
            <p:cNvPicPr/>
            <p:nvPr/>
          </p:nvPicPr>
          <p:blipFill>
            <a:blip r:embed="rId11"/>
            <a:stretch/>
          </p:blipFill>
          <p:spPr>
            <a:xfrm>
              <a:off x="304920" y="0"/>
              <a:ext cx="15746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2286000" y="1447920"/>
              <a:ext cx="64771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10000"/>
                </a:lnSpc>
                <a:spcBef>
                  <a:spcPts val="601"/>
                </a:spcBef>
                <a:buClr>
                  <a:srgbClr val="cc0000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nstallation Guide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209680" y="228600"/>
            <a:ext cx="6933960" cy="3429000"/>
            <a:chOff x="2209680" y="228600"/>
            <a:chExt cx="6933960" cy="3429000"/>
          </a:xfrm>
        </p:grpSpPr>
        <p:grpSp>
          <p:nvGrpSpPr>
            <p:cNvPr id="143" name=""/>
            <p:cNvGrpSpPr/>
            <p:nvPr/>
          </p:nvGrpSpPr>
          <p:grpSpPr>
            <a:xfrm>
              <a:off x="6781680" y="228600"/>
              <a:ext cx="2361960" cy="2590560"/>
              <a:chOff x="6781680" y="228600"/>
              <a:chExt cx="2361960" cy="2590560"/>
            </a:xfrm>
          </p:grpSpPr>
          <p:pic>
            <p:nvPicPr>
              <p:cNvPr id="144" name="guide_cover" descr=""/>
              <p:cNvPicPr/>
              <p:nvPr/>
            </p:nvPicPr>
            <p:blipFill>
              <a:blip r:embed="rId12"/>
              <a:stretch/>
            </p:blipFill>
            <p:spPr>
              <a:xfrm>
                <a:off x="6781680" y="228600"/>
                <a:ext cx="1574640" cy="182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5" name="guide_cover" descr=""/>
              <p:cNvPicPr/>
              <p:nvPr/>
            </p:nvPicPr>
            <p:blipFill>
              <a:blip r:embed="rId13"/>
              <a:stretch/>
            </p:blipFill>
            <p:spPr>
              <a:xfrm>
                <a:off x="6933960" y="380880"/>
                <a:ext cx="1574640" cy="182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6" name="guide_cover" descr=""/>
              <p:cNvPicPr/>
              <p:nvPr/>
            </p:nvPicPr>
            <p:blipFill>
              <a:blip r:embed="rId14"/>
              <a:stretch/>
            </p:blipFill>
            <p:spPr>
              <a:xfrm>
                <a:off x="7086240" y="533160"/>
                <a:ext cx="1575000" cy="182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7" name="guide_cover" descr=""/>
              <p:cNvPicPr/>
              <p:nvPr/>
            </p:nvPicPr>
            <p:blipFill>
              <a:blip r:embed="rId15"/>
              <a:stretch/>
            </p:blipFill>
            <p:spPr>
              <a:xfrm>
                <a:off x="7238880" y="685800"/>
                <a:ext cx="1574640" cy="182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" name="guide_cover" descr=""/>
              <p:cNvPicPr/>
              <p:nvPr/>
            </p:nvPicPr>
            <p:blipFill>
              <a:blip r:embed="rId16"/>
              <a:stretch/>
            </p:blipFill>
            <p:spPr>
              <a:xfrm>
                <a:off x="7391160" y="838080"/>
                <a:ext cx="1574640" cy="182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" name="guide_cover" descr=""/>
              <p:cNvPicPr/>
              <p:nvPr/>
            </p:nvPicPr>
            <p:blipFill>
              <a:blip r:embed="rId17"/>
              <a:stretch/>
            </p:blipFill>
            <p:spPr>
              <a:xfrm>
                <a:off x="7569000" y="990360"/>
                <a:ext cx="1574640" cy="1828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0" name=""/>
            <p:cNvSpPr/>
            <p:nvPr/>
          </p:nvSpPr>
          <p:spPr>
            <a:xfrm>
              <a:off x="2209680" y="3352680"/>
              <a:ext cx="6477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53000"/>
            </a:bodyPr>
            <a:p>
              <a:pPr marL="181800" indent="-181800">
                <a:lnSpc>
                  <a:spcPct val="110000"/>
                </a:lnSpc>
                <a:spcBef>
                  <a:spcPts val="601"/>
                </a:spcBef>
                <a:buClr>
                  <a:srgbClr val="cc0000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 Getting Started manuals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209680" y="4343400"/>
            <a:ext cx="6019920" cy="2819520"/>
            <a:chOff x="2209680" y="4343400"/>
            <a:chExt cx="6019920" cy="2819520"/>
          </a:xfrm>
        </p:grpSpPr>
        <p:pic>
          <p:nvPicPr>
            <p:cNvPr id="152" name="guide_cover" descr=""/>
            <p:cNvPicPr/>
            <p:nvPr/>
          </p:nvPicPr>
          <p:blipFill>
            <a:blip r:embed="rId18"/>
            <a:stretch/>
          </p:blipFill>
          <p:spPr>
            <a:xfrm>
              <a:off x="2590920" y="5334120"/>
              <a:ext cx="157464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3" name=""/>
            <p:cNvGrpSpPr/>
            <p:nvPr/>
          </p:nvGrpSpPr>
          <p:grpSpPr>
            <a:xfrm>
              <a:off x="2209680" y="4343400"/>
              <a:ext cx="6019920" cy="2819520"/>
              <a:chOff x="2209680" y="4343400"/>
              <a:chExt cx="6019920" cy="2819520"/>
            </a:xfrm>
          </p:grpSpPr>
          <p:pic>
            <p:nvPicPr>
              <p:cNvPr id="154" name="guide_cover" descr=""/>
              <p:cNvPicPr/>
              <p:nvPr/>
            </p:nvPicPr>
            <p:blipFill>
              <a:blip r:embed="rId19"/>
              <a:stretch/>
            </p:blipFill>
            <p:spPr>
              <a:xfrm>
                <a:off x="4648320" y="5334120"/>
                <a:ext cx="1574640" cy="182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>
                <a:off x="2209680" y="4343400"/>
                <a:ext cx="6019920" cy="53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 fontScale="50000"/>
              </a:bodyPr>
              <a:p>
                <a:pPr marL="171360" indent="-171360">
                  <a:lnSpc>
                    <a:spcPct val="110000"/>
                  </a:lnSpc>
                  <a:spcBef>
                    <a:spcPts val="601"/>
                  </a:spcBef>
                  <a:buClr>
                    <a:srgbClr val="cc0000"/>
                  </a:buClr>
                  <a:buSzPct val="80000"/>
                  <a:buFont typeface="Wingdings" charset="2"/>
                  <a:buChar char="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Data Migration</a:t>
                </a:r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  <a:p>
                <a:pPr marL="171360" indent="-171360">
                  <a:lnSpc>
                    <a:spcPct val="110000"/>
                  </a:lnSpc>
                  <a:spcBef>
                    <a:spcPts val="601"/>
                  </a:spcBef>
                  <a:buClr>
                    <a:srgbClr val="cc0000"/>
                  </a:buClr>
                  <a:buSzPct val="80000"/>
                  <a:buFont typeface="Wingdings" charset="2"/>
                  <a:buChar char="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DB2/400 Import Utility</a:t>
                </a:r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Printed and Online Formats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Uses Adobe Acrobat for online manual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onvenient for Synon to produc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 optimized for online display (fixed format pages etc.)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 accessible from the product (separate CD)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24 Online help (.HLP) files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572000" y="1600200"/>
            <a:ext cx="1220760" cy="13716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5029200" y="2514600"/>
            <a:ext cx="1220760" cy="13716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1905120" y="838080"/>
            <a:ext cx="1220760" cy="13716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2666880" y="3657600"/>
            <a:ext cx="1220760" cy="13716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6"/>
          <a:stretch/>
        </p:blipFill>
        <p:spPr>
          <a:xfrm>
            <a:off x="6095880" y="2133720"/>
            <a:ext cx="1220760" cy="13716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7"/>
          <a:stretch/>
        </p:blipFill>
        <p:spPr>
          <a:xfrm>
            <a:off x="5867280" y="3505320"/>
            <a:ext cx="1220760" cy="13716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8"/>
          <a:stretch/>
        </p:blipFill>
        <p:spPr>
          <a:xfrm>
            <a:off x="0" y="2895480"/>
            <a:ext cx="1220760" cy="13716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9"/>
          <a:stretch/>
        </p:blipFill>
        <p:spPr>
          <a:xfrm>
            <a:off x="4572000" y="3733920"/>
            <a:ext cx="1220760" cy="13716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0"/>
          <a:stretch/>
        </p:blipFill>
        <p:spPr>
          <a:xfrm>
            <a:off x="7543800" y="533520"/>
            <a:ext cx="1220760" cy="13716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1"/>
          <a:stretch/>
        </p:blipFill>
        <p:spPr>
          <a:xfrm>
            <a:off x="1905120" y="5105520"/>
            <a:ext cx="1220760" cy="13716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2"/>
          <a:stretch/>
        </p:blipFill>
        <p:spPr>
          <a:xfrm>
            <a:off x="3733920" y="990720"/>
            <a:ext cx="1220760" cy="1371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3"/>
          <a:stretch/>
        </p:blipFill>
        <p:spPr>
          <a:xfrm>
            <a:off x="2666880" y="2209680"/>
            <a:ext cx="1220760" cy="13716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4"/>
          <a:stretch/>
        </p:blipFill>
        <p:spPr>
          <a:xfrm>
            <a:off x="7162920" y="3962520"/>
            <a:ext cx="1220760" cy="13716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5"/>
          <a:stretch/>
        </p:blipFill>
        <p:spPr>
          <a:xfrm>
            <a:off x="5334120" y="533520"/>
            <a:ext cx="1220760" cy="13716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16"/>
          <a:stretch/>
        </p:blipFill>
        <p:spPr>
          <a:xfrm>
            <a:off x="457200" y="380880"/>
            <a:ext cx="1220760" cy="13716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7"/>
          <a:stretch/>
        </p:blipFill>
        <p:spPr>
          <a:xfrm>
            <a:off x="533520" y="4952880"/>
            <a:ext cx="1220760" cy="13716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8"/>
          <a:stretch/>
        </p:blipFill>
        <p:spPr>
          <a:xfrm>
            <a:off x="7391520" y="2362320"/>
            <a:ext cx="1220760" cy="13716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19"/>
          <a:stretch/>
        </p:blipFill>
        <p:spPr>
          <a:xfrm>
            <a:off x="7923240" y="5181480"/>
            <a:ext cx="1220760" cy="13716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0"/>
          <a:stretch/>
        </p:blipFill>
        <p:spPr>
          <a:xfrm>
            <a:off x="5943600" y="5029200"/>
            <a:ext cx="1220760" cy="13716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1"/>
          <a:stretch/>
        </p:blipFill>
        <p:spPr>
          <a:xfrm>
            <a:off x="3505320" y="2971800"/>
            <a:ext cx="1220760" cy="13716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2"/>
          <a:stretch/>
        </p:blipFill>
        <p:spPr>
          <a:xfrm>
            <a:off x="4419720" y="5029200"/>
            <a:ext cx="1220760" cy="13716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3"/>
          <a:stretch/>
        </p:blipFill>
        <p:spPr>
          <a:xfrm>
            <a:off x="6629400" y="838080"/>
            <a:ext cx="1220760" cy="13716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4"/>
          <a:stretch/>
        </p:blipFill>
        <p:spPr>
          <a:xfrm>
            <a:off x="1371600" y="2133720"/>
            <a:ext cx="1220760" cy="13716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5"/>
          <a:stretch/>
        </p:blipFill>
        <p:spPr>
          <a:xfrm>
            <a:off x="2971800" y="4952880"/>
            <a:ext cx="1220760" cy="13716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6"/>
          <a:stretch/>
        </p:blipFill>
        <p:spPr>
          <a:xfrm>
            <a:off x="1447920" y="3733920"/>
            <a:ext cx="12207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Online help features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773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Accessible directly from the produc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ontext-sensitive (Help buttons, SHIFT+F1 etc.)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…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ontent overlaps with printed manuals: two places to search for informatio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…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not all information is available in the help file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3.5 (Opal) Documentation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rovide the bulk of the documentation as online hel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ly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Use new HTML Help forma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Retain only 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tallation Guide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tting Started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 as hard-copy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Introduc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w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 online training an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w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 tutoria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Microsoft HTML Help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Latest generation Windows help system: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189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Exploits Internet Explorer layout engin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0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Will become the Win98/NT 5.0 standard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0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Adds help functionality to standard HTML (Contents, Index, Full-text search) 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0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Adds ability to compile/compress .HTM files and graphics into a single help fil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What is “Learnability”?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Making Obsydian easier to lear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A primary objective for Obsydian Development: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or our customers, to train new staff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or Synon, to expand into new market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Arial"/>
              </a:rPr>
              <a:t>NT market, potential Obsydian Lite etc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More HTML Help features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2057400"/>
            <a:ext cx="80773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2000"/>
          </a:bodyPr>
          <a:p>
            <a:pPr marL="246960" indent="-24696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roved Contents browser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534960" indent="-20556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imilar to Developer Studio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5349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46960" indent="-24696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formation Type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534960" indent="-20556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Let you customize your view of the help system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469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46960" indent="-24696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ent-side compiling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534960" indent="-20556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Downloads updates and re-compiles the help fil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Pros and Cons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657600" y="3276360"/>
            <a:ext cx="49528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Improved quality by eliminating inconsistencie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105520" y="1447920"/>
            <a:ext cx="3352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vantages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657600" y="4572000"/>
            <a:ext cx="4876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3000"/>
          </a:bodyPr>
          <a:p>
            <a:pPr marL="284400" indent="-2844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ingle, searchable source of information for users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733920" y="5638680"/>
            <a:ext cx="4724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3000"/>
          </a:bodyPr>
          <a:p>
            <a:pPr marL="284400" indent="-2844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rees up resources to focus on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learnability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284400" indent="-2844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657600" y="2133720"/>
            <a:ext cx="49528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3000"/>
          </a:bodyPr>
          <a:p>
            <a:pPr marL="216000" indent="-2160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Reduced maintenance by eliminating duplication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0880" y="2133720"/>
            <a:ext cx="3353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49000"/>
          </a:bodyPr>
          <a:p>
            <a:pPr marL="167760" indent="-16776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eople like books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167760" indent="-16776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167760" indent="-16776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No computer required!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167760" indent="-16776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1447920"/>
            <a:ext cx="2362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advantages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Self-paced online training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icks a pathway through the documentatio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You don’t have to read everything to be a productive Obsydian developer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052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05280" indent="-3052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Highlights key topics (an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gnores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 others)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052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05280" indent="-3052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Incorporates animated demo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052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05280" indent="-3052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Incorporates exercises and test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Initial Opal deliverable - Part I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Tour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” for new user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Initial target areas: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Overviews and key concepts (Patterns, Inheritance, Model-based development)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20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Emphasis on new pattern librarie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20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Brings together pattern libraries and base produc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20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onfiguration and setup issue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Guided Tour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tructured like a training cours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Modules divided into lesson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Introductions, summaries, question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rocedures illustrated with animation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Initial Opal deliverable - Part II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w Tutoria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13160" indent="-27432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 versions instead of six. 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5250 and ODBC-based</a:t>
            </a:r>
            <a:br>
              <a:rPr sz="2400"/>
            </a:b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(subject to licensing issues)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2" marL="10972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13160" indent="-27432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ocused 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ication design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 not configuratio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13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13160" indent="-27432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A better introduction to Obsydia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Delivery system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Accessible “out-of-the-box”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art of the help system. You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N’T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 need an Internet connection!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Web-delivery (Alt+Ed) is a later objectiv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Will add value with database that tracks courses taken, test results etc.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upplementary online course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HTML Help format will ease the transitio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Object Help (SHIFT+F1)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Will support Winhelp (.HLP) or HTML Help (.CHM)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Obsydian 3.5 calls HTML Help if .HLP file is found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need to change your existing object help files!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7543800" y="2514600"/>
            <a:ext cx="380880" cy="380880"/>
          </a:xfrm>
          <a:prstGeom prst="rect">
            <a:avLst/>
          </a:prstGeom>
          <a:solidFill>
            <a:srgbClr val="6699ff"/>
          </a:soli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Summary - The Big Picture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6248520" y="1371600"/>
            <a:ext cx="930240" cy="15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2743200" y="3933720"/>
            <a:ext cx="3505320" cy="2924280"/>
            <a:chOff x="2743200" y="3933720"/>
            <a:chExt cx="3505320" cy="2924280"/>
          </a:xfrm>
        </p:grpSpPr>
        <p:grpSp>
          <p:nvGrpSpPr>
            <p:cNvPr id="216" name=""/>
            <p:cNvGrpSpPr/>
            <p:nvPr/>
          </p:nvGrpSpPr>
          <p:grpSpPr>
            <a:xfrm>
              <a:off x="2743200" y="3933720"/>
              <a:ext cx="2922480" cy="2924280"/>
              <a:chOff x="2743200" y="3933720"/>
              <a:chExt cx="2922480" cy="2924280"/>
            </a:xfrm>
          </p:grpSpPr>
          <p:sp>
            <p:nvSpPr>
              <p:cNvPr id="217" name=""/>
              <p:cNvSpPr/>
              <p:nvPr/>
            </p:nvSpPr>
            <p:spPr>
              <a:xfrm>
                <a:off x="2743200" y="3933720"/>
                <a:ext cx="2922480" cy="2924280"/>
              </a:xfrm>
              <a:prstGeom prst="ellipse">
                <a:avLst/>
              </a:prstGeom>
              <a:noFill/>
              <a:ln w="572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865680" y="4187880"/>
                <a:ext cx="311040" cy="465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711600" y="4343400"/>
                <a:ext cx="309600" cy="465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556080" y="4497480"/>
                <a:ext cx="311040" cy="466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402000" y="4653000"/>
                <a:ext cx="309600" cy="465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3124080" y="5029200"/>
              <a:ext cx="31244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27000"/>
            </a:bodyPr>
            <a:p>
              <a:pPr marL="92520" indent="-92520">
                <a:lnSpc>
                  <a:spcPct val="11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66"/>
                  </a:solidFill>
                  <a:latin typeface="Arial"/>
                </a:rPr>
                <a:t>Supplementary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  <a:p>
              <a:pPr marL="92520" indent="-92520">
                <a:lnSpc>
                  <a:spcPct val="11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66"/>
                  </a:solidFill>
                  <a:latin typeface="Arial"/>
                </a:rPr>
                <a:t>Web-based 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  <a:p>
              <a:pPr marL="92520" indent="-92520">
                <a:lnSpc>
                  <a:spcPct val="11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66"/>
                  </a:solidFill>
                  <a:latin typeface="Arial"/>
                </a:rPr>
                <a:t>training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362320" y="990720"/>
            <a:ext cx="4114800" cy="3563640"/>
            <a:chOff x="2362320" y="990720"/>
            <a:chExt cx="4114800" cy="3563640"/>
          </a:xfrm>
        </p:grpSpPr>
        <p:sp>
          <p:nvSpPr>
            <p:cNvPr id="224" name=""/>
            <p:cNvSpPr/>
            <p:nvPr/>
          </p:nvSpPr>
          <p:spPr>
            <a:xfrm>
              <a:off x="3352680" y="2819520"/>
              <a:ext cx="31244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41000"/>
            </a:bodyPr>
            <a:p>
              <a:pPr marL="140400" indent="-140400">
                <a:lnSpc>
                  <a:spcPct val="11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66"/>
                  </a:solidFill>
                  <a:latin typeface="Arial"/>
                </a:rPr>
                <a:t>HTML product 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  <a:p>
              <a:pPr marL="140400" indent="-140400">
                <a:lnSpc>
                  <a:spcPct val="11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66"/>
                  </a:solidFill>
                  <a:latin typeface="Arial"/>
                </a:rPr>
                <a:t>documentation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2362320" y="990720"/>
              <a:ext cx="3560760" cy="3563640"/>
              <a:chOff x="2362320" y="990720"/>
              <a:chExt cx="3560760" cy="3563640"/>
            </a:xfrm>
          </p:grpSpPr>
          <p:sp>
            <p:nvSpPr>
              <p:cNvPr id="226" name=""/>
              <p:cNvSpPr/>
              <p:nvPr/>
            </p:nvSpPr>
            <p:spPr>
              <a:xfrm>
                <a:off x="2362320" y="990720"/>
                <a:ext cx="3560760" cy="3563640"/>
              </a:xfrm>
              <a:prstGeom prst="ellipse">
                <a:avLst/>
              </a:prstGeom>
              <a:noFill/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267000" y="1519200"/>
                <a:ext cx="311400" cy="465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112920" y="1673280"/>
                <a:ext cx="309600" cy="466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957400" y="1828800"/>
                <a:ext cx="311400" cy="465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803680" y="1984320"/>
                <a:ext cx="309240" cy="465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267000" y="2448000"/>
                <a:ext cx="311400" cy="466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112920" y="2603520"/>
                <a:ext cx="309600" cy="465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957400" y="2757600"/>
                <a:ext cx="311400" cy="466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803680" y="2913120"/>
                <a:ext cx="309240" cy="465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195800" y="1519200"/>
                <a:ext cx="311040" cy="465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041720" y="1673280"/>
                <a:ext cx="309600" cy="466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886200" y="1828800"/>
                <a:ext cx="311040" cy="465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732120" y="1984320"/>
                <a:ext cx="309600" cy="465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111640" y="1820880"/>
                <a:ext cx="311400" cy="465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957920" y="1974960"/>
                <a:ext cx="309240" cy="466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802040" y="2130480"/>
                <a:ext cx="311400" cy="465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648320" y="2286000"/>
                <a:ext cx="309600" cy="465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3" name=""/>
          <p:cNvGrpSpPr/>
          <p:nvPr/>
        </p:nvGrpSpPr>
        <p:grpSpPr>
          <a:xfrm>
            <a:off x="6019920" y="1143000"/>
            <a:ext cx="3124080" cy="2057400"/>
            <a:chOff x="6019920" y="1143000"/>
            <a:chExt cx="3124080" cy="2057400"/>
          </a:xfrm>
        </p:grpSpPr>
        <p:sp>
          <p:nvSpPr>
            <p:cNvPr id="244" name=""/>
            <p:cNvSpPr/>
            <p:nvPr/>
          </p:nvSpPr>
          <p:spPr>
            <a:xfrm>
              <a:off x="6019920" y="1143000"/>
              <a:ext cx="3124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0000"/>
            </a:bodyPr>
            <a:p>
              <a:pPr marL="308520" indent="-308520">
                <a:lnSpc>
                  <a:spcPct val="11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66"/>
                  </a:solidFill>
                  <a:latin typeface="Arial"/>
                </a:rPr>
                <a:t>The Training View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10800000">
              <a:off x="6781320" y="1828800"/>
              <a:ext cx="1143000" cy="137160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1371600"/>
                <a:gd name="textAreaBottom" fmla="*/ 1371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 rot="10800000">
            <a:off x="6781320" y="4343400"/>
            <a:ext cx="1143000" cy="1371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543800" y="3429000"/>
            <a:ext cx="380880" cy="380880"/>
          </a:xfrm>
          <a:prstGeom prst="rect">
            <a:avLst/>
          </a:prstGeom>
          <a:solidFill>
            <a:srgbClr val="6699ff"/>
          </a:soli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543800" y="2971800"/>
            <a:ext cx="380880" cy="380880"/>
          </a:xfrm>
          <a:prstGeom prst="rect">
            <a:avLst/>
          </a:prstGeom>
          <a:solidFill>
            <a:srgbClr val="6699ff"/>
          </a:soli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886200"/>
            <a:ext cx="380880" cy="380880"/>
          </a:xfrm>
          <a:prstGeom prst="rect">
            <a:avLst/>
          </a:prstGeom>
          <a:solidFill>
            <a:srgbClr val="6699ff"/>
          </a:soli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0" y="1066680"/>
            <a:ext cx="3124080" cy="2057400"/>
            <a:chOff x="0" y="1066680"/>
            <a:chExt cx="3124080" cy="2057400"/>
          </a:xfrm>
        </p:grpSpPr>
        <p:sp>
          <p:nvSpPr>
            <p:cNvPr id="251" name=""/>
            <p:cNvSpPr/>
            <p:nvPr/>
          </p:nvSpPr>
          <p:spPr>
            <a:xfrm>
              <a:off x="0" y="1066680"/>
              <a:ext cx="31240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1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66"/>
                  </a:solidFill>
                  <a:latin typeface="Arial"/>
                </a:rPr>
                <a:t>The Complete View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 rot="10800000">
              <a:off x="912960" y="1752480"/>
              <a:ext cx="1143000" cy="1371600"/>
            </a:xfrm>
            <a:custGeom>
              <a:avLst/>
              <a:gdLst>
                <a:gd name="textAreaLeft" fmla="*/ -360 w 1143000"/>
                <a:gd name="textAreaRight" fmla="*/ 1143000 w 1143000"/>
                <a:gd name="textAreaTop" fmla="*/ 0 h 1371600"/>
                <a:gd name="textAreaBottom" fmla="*/ 1371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228600" y="4495680"/>
            <a:ext cx="2743200" cy="1905120"/>
            <a:chOff x="228600" y="4495680"/>
            <a:chExt cx="2743200" cy="1905120"/>
          </a:xfrm>
        </p:grpSpPr>
        <p:pic>
          <p:nvPicPr>
            <p:cNvPr id="254" name="guide_cover" descr=""/>
            <p:cNvPicPr/>
            <p:nvPr/>
          </p:nvPicPr>
          <p:blipFill>
            <a:blip r:embed="rId2"/>
            <a:stretch/>
          </p:blipFill>
          <p:spPr>
            <a:xfrm>
              <a:off x="228600" y="4495680"/>
              <a:ext cx="10494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533520" y="4648320"/>
              <a:ext cx="24382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1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nstallation Guide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pic>
          <p:nvPicPr>
            <p:cNvPr id="256" name="guide_cover" descr=""/>
            <p:cNvPicPr/>
            <p:nvPr/>
          </p:nvPicPr>
          <p:blipFill>
            <a:blip r:embed="rId3"/>
            <a:stretch/>
          </p:blipFill>
          <p:spPr>
            <a:xfrm>
              <a:off x="533520" y="5181480"/>
              <a:ext cx="104904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685800" y="5791320"/>
              <a:ext cx="22096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1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Getting Started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HTML Help 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In Action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A product-wide approach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88" name=""/>
          <p:cNvSpPr/>
          <p:nvPr/>
        </p:nvSpPr>
        <p:spPr>
          <a:xfrm>
            <a:off x="2895480" y="1905120"/>
            <a:ext cx="3505320" cy="3352680"/>
          </a:xfrm>
          <a:prstGeom prst="ellipse">
            <a:avLst/>
          </a:prstGeom>
          <a:solidFill>
            <a:srgbClr val="ff6600"/>
          </a:soli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Reducing the 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Learning Curve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0" y="1295280"/>
            <a:ext cx="3502800" cy="1767600"/>
            <a:chOff x="0" y="1295280"/>
            <a:chExt cx="3502800" cy="1767600"/>
          </a:xfrm>
        </p:grpSpPr>
        <p:sp>
          <p:nvSpPr>
            <p:cNvPr id="90" name=""/>
            <p:cNvSpPr/>
            <p:nvPr/>
          </p:nvSpPr>
          <p:spPr>
            <a:xfrm>
              <a:off x="0" y="1295280"/>
              <a:ext cx="2743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66"/>
                  </a:solidFill>
                  <a:latin typeface="Arial"/>
                </a:rPr>
                <a:t>User Interface Enhancements</a:t>
              </a:r>
              <a:endParaRPr b="0" lang="en-US" sz="28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2700000">
              <a:off x="2497320" y="2302920"/>
              <a:ext cx="976320" cy="485640"/>
            </a:xfrm>
            <a:custGeom>
              <a:avLst/>
              <a:gdLst>
                <a:gd name="textAreaLeft" fmla="*/ 152280 w 976320"/>
                <a:gd name="textAreaRight" fmla="*/ 854280 w 976320"/>
                <a:gd name="textAreaTop" fmla="*/ 121320 h 485640"/>
                <a:gd name="textAreaBottom" fmla="*/ 36432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4602600"/>
            <a:ext cx="9144000" cy="1480680"/>
            <a:chOff x="0" y="4602600"/>
            <a:chExt cx="9144000" cy="1480680"/>
          </a:xfrm>
        </p:grpSpPr>
        <p:grpSp>
          <p:nvGrpSpPr>
            <p:cNvPr id="93" name=""/>
            <p:cNvGrpSpPr/>
            <p:nvPr/>
          </p:nvGrpSpPr>
          <p:grpSpPr>
            <a:xfrm>
              <a:off x="0" y="4602600"/>
              <a:ext cx="3825000" cy="1480680"/>
              <a:chOff x="0" y="4602600"/>
              <a:chExt cx="3825000" cy="1480680"/>
            </a:xfrm>
          </p:grpSpPr>
          <p:sp>
            <p:nvSpPr>
              <p:cNvPr id="94" name=""/>
              <p:cNvSpPr/>
              <p:nvPr/>
            </p:nvSpPr>
            <p:spPr>
              <a:xfrm>
                <a:off x="0" y="5562720"/>
                <a:ext cx="3200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cc66"/>
                    </a:solidFill>
                    <a:latin typeface="Arial"/>
                  </a:rPr>
                  <a:t>Documentation</a:t>
                </a:r>
                <a:endParaRPr b="0" lang="en-US" sz="2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8900000">
                <a:off x="2819520" y="4876560"/>
                <a:ext cx="976320" cy="485640"/>
              </a:xfrm>
              <a:custGeom>
                <a:avLst/>
                <a:gdLst>
                  <a:gd name="textAreaLeft" fmla="*/ 152280 w 976320"/>
                  <a:gd name="textAreaRight" fmla="*/ 854280 w 976320"/>
                  <a:gd name="textAreaTop" fmla="*/ 121320 h 485640"/>
                  <a:gd name="textAreaBottom" fmla="*/ 364320 h 4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6699ff"/>
              </a:solidFill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  <p:grpSp>
          <p:nvGrpSpPr>
            <p:cNvPr id="96" name=""/>
            <p:cNvGrpSpPr/>
            <p:nvPr/>
          </p:nvGrpSpPr>
          <p:grpSpPr>
            <a:xfrm>
              <a:off x="5212080" y="4619160"/>
              <a:ext cx="3931920" cy="1464120"/>
              <a:chOff x="5212080" y="4619160"/>
              <a:chExt cx="3931920" cy="1464120"/>
            </a:xfrm>
          </p:grpSpPr>
          <p:sp>
            <p:nvSpPr>
              <p:cNvPr id="97" name=""/>
              <p:cNvSpPr/>
              <p:nvPr/>
            </p:nvSpPr>
            <p:spPr>
              <a:xfrm>
                <a:off x="5943600" y="5562720"/>
                <a:ext cx="3200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cc66"/>
                    </a:solidFill>
                    <a:latin typeface="Arial"/>
                  </a:rPr>
                  <a:t>Online training</a:t>
                </a:r>
                <a:endParaRPr b="0" lang="en-US" sz="28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3500000">
                <a:off x="5240880" y="4893120"/>
                <a:ext cx="976320" cy="485640"/>
              </a:xfrm>
              <a:custGeom>
                <a:avLst/>
                <a:gdLst>
                  <a:gd name="textAreaLeft" fmla="*/ 152280 w 976320"/>
                  <a:gd name="textAreaRight" fmla="*/ 854280 w 976320"/>
                  <a:gd name="textAreaTop" fmla="*/ 121320 h 485640"/>
                  <a:gd name="textAreaBottom" fmla="*/ 364320 h 4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6699ff"/>
              </a:solidFill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9" name=""/>
          <p:cNvGrpSpPr/>
          <p:nvPr/>
        </p:nvGrpSpPr>
        <p:grpSpPr>
          <a:xfrm>
            <a:off x="5685840" y="1371600"/>
            <a:ext cx="3458160" cy="1674000"/>
            <a:chOff x="5685840" y="1371600"/>
            <a:chExt cx="3458160" cy="1674000"/>
          </a:xfrm>
        </p:grpSpPr>
        <p:sp>
          <p:nvSpPr>
            <p:cNvPr id="100" name=""/>
            <p:cNvSpPr/>
            <p:nvPr/>
          </p:nvSpPr>
          <p:spPr>
            <a:xfrm>
              <a:off x="6629400" y="1371600"/>
              <a:ext cx="2514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66"/>
                  </a:solidFill>
                  <a:latin typeface="Arial"/>
                </a:rPr>
                <a:t>New Pattern Libraries</a:t>
              </a:r>
              <a:endParaRPr b="0" lang="en-US" sz="28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8100000">
              <a:off x="5714640" y="2285640"/>
              <a:ext cx="976320" cy="485640"/>
            </a:xfrm>
            <a:custGeom>
              <a:avLst/>
              <a:gdLst>
                <a:gd name="textAreaLeft" fmla="*/ 152280 w 976320"/>
                <a:gd name="textAreaRight" fmla="*/ 854280 w 976320"/>
                <a:gd name="textAreaTop" fmla="*/ 121320 h 485640"/>
                <a:gd name="textAreaBottom" fmla="*/ 36432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HTML Help for genned apps?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Not currently scheduled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Externally-created CHMs can be integrated with generated application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HTML Help provides a simple set API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Arial"/>
              </a:rPr>
              <a:t>DEMO</a:t>
            </a: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38280" y="1371600"/>
            <a:ext cx="1905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Arial Black"/>
              </a:rPr>
              <a:t>R</a:t>
            </a:r>
            <a:endParaRPr b="1" lang="en-US" sz="48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262" name=""/>
          <p:cNvSpPr/>
          <p:nvPr/>
        </p:nvSpPr>
        <p:spPr>
          <a:xfrm>
            <a:off x="2438280" y="2438280"/>
            <a:ext cx="1905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Arial Black"/>
              </a:rPr>
              <a:t>T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438280" y="3429000"/>
            <a:ext cx="1905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Arial Black"/>
              </a:rPr>
              <a:t>F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15238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Arial Black"/>
              </a:rPr>
              <a:t>M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1371600"/>
            <a:ext cx="1905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Arial Black"/>
              </a:rPr>
              <a:t>ead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124080" y="2438280"/>
            <a:ext cx="1905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Arial Black"/>
              </a:rPr>
              <a:t>he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3429000"/>
            <a:ext cx="3048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Arial Black"/>
              </a:rPr>
              <a:t>riendly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352680" y="4495680"/>
            <a:ext cx="24386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Arial Black"/>
              </a:rPr>
              <a:t>anual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57200" y="3276720"/>
            <a:ext cx="2743200" cy="1218600"/>
            <a:chOff x="457200" y="3276720"/>
            <a:chExt cx="2743200" cy="1218600"/>
          </a:xfrm>
        </p:grpSpPr>
        <p:sp>
          <p:nvSpPr>
            <p:cNvPr id="270" name=""/>
            <p:cNvSpPr/>
            <p:nvPr/>
          </p:nvSpPr>
          <p:spPr>
            <a:xfrm flipH="1" flipV="1">
              <a:off x="2666520" y="3962160"/>
              <a:ext cx="381240" cy="533160"/>
            </a:xfrm>
            <a:prstGeom prst="line">
              <a:avLst/>
            </a:prstGeom>
            <a:ln w="7632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666880" y="3962520"/>
              <a:ext cx="533520" cy="304560"/>
            </a:xfrm>
            <a:prstGeom prst="line">
              <a:avLst/>
            </a:prstGeom>
            <a:ln w="7632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7200" y="3276720"/>
              <a:ext cx="2438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3300"/>
                  </a:solidFill>
                  <a:latin typeface="Arial Black"/>
                </a:rPr>
                <a:t>Online</a:t>
              </a:r>
              <a:endParaRPr b="0" lang="en-US" sz="48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Upcoming User Interface Enhancements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320" y="228600"/>
            <a:ext cx="90676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User Interface Enhancements -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Some Highlights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Improved Action Diagram Parser (Opal, 3.5)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258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Diagrammer enhancements (Quartz)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258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Wizards interfaces (Future)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05600" indent="-2714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Gen and build setup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05600" indent="-2714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attern selectio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258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Visual Basic-like AD/Panel editing (Future)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258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258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Great Error Messages of Our Time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No. 1139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27432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Syntax error: extra characters found”</a:t>
            </a:r>
            <a:endParaRPr b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New Action Diagram Parser in 3.5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07696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Default instruction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e.g. Functions default to “Call”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ynonym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e.g. //, * or ; for “Comment”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== and = operators interchangeabl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Better error handling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Offers alternative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0" y="5334120"/>
            <a:ext cx="444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All user-definable!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Diagrammer enhancements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(Quartz and beyond)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roved rendering suppor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New Shapes, Colors and Fill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New Line types and Pen Style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roved and Simplified User Interfac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New palettes to provide drag and drop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New properties palette to specify appearanc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pport for OLE Embedded Object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Allows Word documents to be embedded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upports other OLE compatible document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New Pattern Libraries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25T19:42:50Z</dcterms:created>
  <dc:creator>Daniel Leigh</dc:creator>
  <dc:description/>
  <dc:language>en-US</dc:language>
  <cp:lastModifiedBy>Daniel Leigh</cp:lastModifiedBy>
  <cp:lastPrinted>1998-05-04T21:07:09Z</cp:lastPrinted>
  <dcterms:modified xsi:type="dcterms:W3CDTF">1998-05-08T23:12:23Z</dcterms:modified>
  <cp:revision>101</cp:revision>
  <dc:subject/>
  <dc:title>Learnability and Obsydian</dc:title>
</cp:coreProperties>
</file>