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6C0-E8FA-438B-A8DA-0A0A4B38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84B-279B-4062-A9F8-C3C39B0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5BD-E890-4A93-871F-B7E11671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EB1-92C2-4FC2-A5B8-F0FB4165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B30-B57A-466C-ADBD-99F0EAB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508-133D-4AC2-9AA2-C785083B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B6E-F348-45FA-9478-B18F789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50F-2BD8-4C10-82B5-7FA1F03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DFC-51BE-446C-8CF1-4252957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498-E7FF-4669-B5B1-E8DEAA3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20D-5A55-4A7A-B267-4F5C22B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55C-7A07-4E6F-A2A0-7B57955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66720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242-C2A0-4ED4-BA2F-AF6996DC5ECD}" type="datetime">
              <a:rPr b="0" lang="en-US" sz="900" spc="-1" strike="noStrike">
                <a:solidFill>
                  <a:srgbClr val="ffcc66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667200"/>
            <a:ext cx="40402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66720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8C8-A889-44C9-9EB5-DF640A6CFAC5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 1998 Synon, Inc. 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974960" y="1154160"/>
            <a:ext cx="7022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082960" y="1212840"/>
            <a:ext cx="6808680" cy="27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sydian For Java Cli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ike Cahi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nior Software Engine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non Inc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cahill@synon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ick Demo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++ pan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d Java Panel using JF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d Java Panel using JFC running as appl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 Internet Explorer 3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054-86CE-4D7B-A424-024FA2FF85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sydian For Brows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-use existing application desig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d Java clients can be executed as -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and-alone programs pre-installed on client machine executed inside own VM inst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et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initial footprint on client machine - little administrative overhea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grams downloaded on demand and executed inside a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37C-1390-4940-8B6E-95A8CD74F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enerated Fil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le containing Java for the Action Diagra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le containing Java class for Input variable defin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le containing Java class for Output variable defin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put and output variable files for any called fun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.panelresource file. Humanly-readable text file containing panel design defin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ell .HTML file containing tags for use if panel is run as appl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B90-45C0-4916-A9E8-F786E35ED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sydian For Browser Runtim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isting Java runtime enhanced to support pane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t tied to any particular widget s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280" y="2743200"/>
            <a:ext cx="8534520" cy="3809880"/>
            <a:chOff x="152280" y="2743200"/>
            <a:chExt cx="8534520" cy="3809880"/>
          </a:xfrm>
        </p:grpSpPr>
        <p:sp>
          <p:nvSpPr>
            <p:cNvPr id="139" name=""/>
            <p:cNvSpPr/>
            <p:nvPr/>
          </p:nvSpPr>
          <p:spPr>
            <a:xfrm>
              <a:off x="1219320" y="3429000"/>
              <a:ext cx="1447560" cy="30481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Data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ontro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43400" y="3429000"/>
              <a:ext cx="1447920" cy="30481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OBJF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Graphical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ontro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0" y="3505320"/>
              <a:ext cx="1676520" cy="28954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JFC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Widge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895480"/>
              <a:ext cx="0" cy="36576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280" y="2743200"/>
              <a:ext cx="3353040" cy="609480"/>
            </a:xfrm>
            <a:prstGeom prst="leftRightArrow">
              <a:avLst>
                <a:gd name="adj1" fmla="val 50000"/>
                <a:gd name="adj2" fmla="val 109520"/>
              </a:avLst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Times New Roman"/>
                </a:rPr>
                <a:t>Generator knows about this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2743200"/>
              <a:ext cx="5029200" cy="609480"/>
            </a:xfrm>
            <a:prstGeom prst="leftRightArrow">
              <a:avLst>
                <a:gd name="adj1" fmla="val 50000"/>
                <a:gd name="adj2" fmla="val 164268"/>
              </a:avLst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Times New Roman"/>
                </a:rPr>
                <a:t>Generator does not know about this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39" idx="3"/>
              <a:endCxn id="140" idx="1"/>
            </p:cNvCxnSpPr>
            <p:nvPr/>
          </p:nvCxnSpPr>
          <p:spPr>
            <a:xfrm>
              <a:off x="2666520" y="4952520"/>
              <a:ext cx="1677240" cy="108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  <p:cxnSp>
          <p:nvCxnSpPr>
            <p:cNvPr id="146" name=""/>
            <p:cNvCxnSpPr>
              <a:stCxn id="140" idx="3"/>
              <a:endCxn id="141" idx="1"/>
            </p:cNvCxnSpPr>
            <p:nvPr/>
          </p:nvCxnSpPr>
          <p:spPr>
            <a:xfrm>
              <a:off x="5790960" y="4952520"/>
              <a:ext cx="1067400" cy="108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4343400" y="3429000"/>
            <a:ext cx="4191120" cy="3048120"/>
            <a:chOff x="4343400" y="3429000"/>
            <a:chExt cx="4191120" cy="3048120"/>
          </a:xfrm>
        </p:grpSpPr>
        <p:sp>
          <p:nvSpPr>
            <p:cNvPr id="148" name=""/>
            <p:cNvSpPr/>
            <p:nvPr/>
          </p:nvSpPr>
          <p:spPr>
            <a:xfrm>
              <a:off x="4343400" y="3429000"/>
              <a:ext cx="1447920" cy="30481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OBAB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Graphical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ontro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0" y="3505320"/>
              <a:ext cx="1676520" cy="28954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ABC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Widge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F93-D5B2-4943-B4BA-55EC8B6A4F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va Client Application Architectur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2209680"/>
            <a:ext cx="2895480" cy="2362320"/>
            <a:chOff x="533520" y="2209680"/>
            <a:chExt cx="2895480" cy="2362320"/>
          </a:xfrm>
        </p:grpSpPr>
        <p:sp>
          <p:nvSpPr>
            <p:cNvPr id="152" name=""/>
            <p:cNvSpPr/>
            <p:nvPr/>
          </p:nvSpPr>
          <p:spPr>
            <a:xfrm>
              <a:off x="533520" y="2209680"/>
              <a:ext cx="2895480" cy="23623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3429000"/>
              <a:ext cx="121932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JDK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3429000"/>
              <a:ext cx="121932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JF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2666880"/>
              <a:ext cx="2514600" cy="6858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Generated Java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Client Class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220968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15000" y="2209680"/>
            <a:ext cx="2895480" cy="2362320"/>
            <a:chOff x="5715000" y="2209680"/>
            <a:chExt cx="2895480" cy="2362320"/>
          </a:xfrm>
        </p:grpSpPr>
        <p:sp>
          <p:nvSpPr>
            <p:cNvPr id="158" name=""/>
            <p:cNvSpPr/>
            <p:nvPr/>
          </p:nvSpPr>
          <p:spPr>
            <a:xfrm>
              <a:off x="5715000" y="2209680"/>
              <a:ext cx="2895480" cy="23623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7280" y="3429000"/>
              <a:ext cx="121932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JDK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2560" y="3429000"/>
              <a:ext cx="121932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2666880"/>
              <a:ext cx="2514600" cy="6858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Generated Java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Server Class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30120" y="22096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29000" y="3200400"/>
            <a:ext cx="2286000" cy="333360"/>
          </a:xfrm>
          <a:prstGeom prst="leftRightArrow">
            <a:avLst>
              <a:gd name="adj1" fmla="val 33991"/>
              <a:gd name="adj2" fmla="val 60955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40280" y="2819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8C8-3500-4EDF-A544-32AB1B8FF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va Client Applet Architectur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295280"/>
            <a:ext cx="5486400" cy="2743200"/>
            <a:chOff x="533520" y="1295280"/>
            <a:chExt cx="5486400" cy="2743200"/>
          </a:xfrm>
        </p:grpSpPr>
        <p:sp>
          <p:nvSpPr>
            <p:cNvPr id="167" name=""/>
            <p:cNvSpPr/>
            <p:nvPr/>
          </p:nvSpPr>
          <p:spPr>
            <a:xfrm>
              <a:off x="3733920" y="1295280"/>
              <a:ext cx="2286000" cy="27432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1295280"/>
              <a:ext cx="1981080" cy="21337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1676520"/>
              <a:ext cx="2133720" cy="5331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Web Server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129528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80" y="1828800"/>
              <a:ext cx="1828800" cy="15238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2286000"/>
              <a:ext cx="1371600" cy="9144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Times New Roman"/>
                </a:rPr>
                <a:t>Generated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Times New Roman"/>
                </a:rPr>
                <a:t>Applet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800" y="12952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Server 1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1905120"/>
              <a:ext cx="1447560" cy="333360"/>
            </a:xfrm>
            <a:prstGeom prst="leftRightArrow">
              <a:avLst>
                <a:gd name="adj1" fmla="val 33991"/>
                <a:gd name="adj2" fmla="val 38598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2360" y="15238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8120" y="19051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Times New Roman"/>
                </a:rPr>
                <a:t>Browser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3048120"/>
              <a:ext cx="83844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JDK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3048120"/>
              <a:ext cx="121932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880" y="2286000"/>
              <a:ext cx="2133720" cy="6858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Generated Java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Server Class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3720" y="2666880"/>
              <a:ext cx="1676160" cy="333360"/>
            </a:xfrm>
            <a:prstGeom prst="leftRightArrow">
              <a:avLst>
                <a:gd name="adj1" fmla="val 33991"/>
                <a:gd name="adj2" fmla="val 44694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6400" y="23623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41360" y="1295280"/>
            <a:ext cx="8474040" cy="4372200"/>
            <a:chOff x="441360" y="1295280"/>
            <a:chExt cx="8474040" cy="4372200"/>
          </a:xfrm>
        </p:grpSpPr>
        <p:sp>
          <p:nvSpPr>
            <p:cNvPr id="183" name=""/>
            <p:cNvSpPr/>
            <p:nvPr/>
          </p:nvSpPr>
          <p:spPr>
            <a:xfrm>
              <a:off x="441360" y="4842000"/>
              <a:ext cx="816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NB. An unsigned applet can only open a network conversation with the machine that delivered it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1295280"/>
              <a:ext cx="2286000" cy="27432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3640" y="12952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Server 2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5720" y="3048120"/>
              <a:ext cx="83808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JDK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0120" y="3048120"/>
              <a:ext cx="1218960" cy="9144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2286000"/>
              <a:ext cx="2133360" cy="6858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Generated Java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Server Class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590920"/>
              <a:ext cx="990360" cy="333360"/>
            </a:xfrm>
            <a:prstGeom prst="leftRightArrow">
              <a:avLst>
                <a:gd name="adj1" fmla="val 33991"/>
                <a:gd name="adj2" fmla="val 26407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E77-7391-4F82-A6E3-021896DCF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ot Currently Supporte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MDI support in Jav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DI windows will be converted to SDI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report gene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rag and drop not suppor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aiting for JDK 1.2 to be relea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help gene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aiting for JavaHelp which is in draft specification st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tiveX controls not suppor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Beans support in the futu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ED1-C96A-4231-825A-7652460590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ctive X/Java Bea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1523880"/>
            <a:ext cx="4190760" cy="3807000"/>
            <a:chOff x="2286000" y="1523880"/>
            <a:chExt cx="4190760" cy="38070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5029200" y="2286000"/>
              <a:ext cx="8096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2590920" y="2057400"/>
              <a:ext cx="15224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962520" y="2590920"/>
              <a:ext cx="1066680" cy="228600"/>
            </a:xfrm>
            <a:prstGeom prst="leftArrow">
              <a:avLst>
                <a:gd name="adj1" fmla="val 50000"/>
                <a:gd name="adj2" fmla="val 116654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6920" y="152388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C++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1680" y="152388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Active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286000" y="3809880"/>
              <a:ext cx="4190760" cy="1521000"/>
              <a:chOff x="2286000" y="3809880"/>
              <a:chExt cx="4190760" cy="1521000"/>
            </a:xfrm>
          </p:grpSpPr>
          <p:pic>
            <p:nvPicPr>
              <p:cNvPr id="200" name="BEANS" descr=""/>
              <p:cNvPicPr/>
              <p:nvPr/>
            </p:nvPicPr>
            <p:blipFill>
              <a:blip r:embed="rId4"/>
              <a:stretch/>
            </p:blipFill>
            <p:spPr>
              <a:xfrm>
                <a:off x="5257800" y="4267080"/>
                <a:ext cx="1218960" cy="106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86000" y="4267080"/>
                <a:ext cx="2286000" cy="10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4267080" y="4648320"/>
                <a:ext cx="1066680" cy="228600"/>
              </a:xfrm>
              <a:prstGeom prst="leftArrow">
                <a:avLst>
                  <a:gd name="adj1" fmla="val 50000"/>
                  <a:gd name="adj2" fmla="val 116654"/>
                </a:avLst>
              </a:prstGeom>
              <a:solidFill>
                <a:srgbClr val="6699ff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73600" y="3809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66"/>
                    </a:solidFill>
                    <a:latin typeface="Times New Roman"/>
                  </a:rPr>
                  <a:t>Java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88200" y="380988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66"/>
                    </a:solidFill>
                    <a:latin typeface="Times New Roman"/>
                  </a:rPr>
                  <a:t>Bean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 rot="2500200">
            <a:off x="3771720" y="369540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AAC-25F2-40A0-BD99-1115B9299B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ployment Considerat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y parts to a Java client applic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DK executables and runti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FC runti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Java runti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d class fi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y parts to a Java client appl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FC runti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Java runti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d class fi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521-E662-42BE-8D44-B39D96C4D6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ent Server Application Architectur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lient machin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ted Java client class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ing files - images etc.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D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F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bsydian runti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rver machin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ted Java server class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ing files - properties files etc.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D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bsydian runti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3BF-3D00-4952-977A-788B57A223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ession Overview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In Three Slid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Client Decis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For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ployment Dilemma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monst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0F0-1488-49F8-B672-F95F12972BA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tandard Applet Deploy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lient Machin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e-delive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rowser (JDK 1.1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ost-delive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rowser (JDK 1.1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plet Cod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FC class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bsydian runti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eb 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ckaged apple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Applet code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JFC class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Obsydian runtime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upporting file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ava 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ted server fun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bsydian runti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D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4F3-E65C-4112-A3C3-6CECB5527D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pplet Design Considerat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ile it will be possible to generate your entire application as Java - should you 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itial application downloa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y pane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equent database acc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92F-0306-491D-B0AB-077DA981B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pplet Design Considerat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der opening part of your application up to Web acc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der breaking your application up into smaller parts linked by 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06F-9C9B-4017-A93B-E71A768AE6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Fu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DK 1.2 availa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astly improved perform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HotSpot Virtual Machin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in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el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tive compi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D52-B983-4D82-8C40-182DEC40E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monstra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application with gri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1CF-887E-466B-80F2-A366D133F8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Resourc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soft home p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javasoft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Developers Conne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javasoft.com/jd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.lang.java.*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n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http://www.synon.com/lavalounge/clublava/Ob4javaclient.ht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http://www.synon.com/lavalounge/clublava/ob4java.ht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6CC-6762-45FA-8AFA-089764CCCA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sydian For Brows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Questions..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56C-2F46-4B36-87E7-FD53DC4511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Java Languag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ject-orien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asses, methods, interfaces, inherit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 familiar C++ style syntax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++ without tears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y features built into shipped AP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twork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ception handl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tility classes: hash tables, stacks etc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arbage colle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C48-85A0-4577-8368-3CFD97BF6A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va Runtime Environ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rtual machine or Java V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is compiled into an intermediate form called byte code which is interpreted at runtime by the virtual machin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ther languages compiled into platform specific binaries that link in the execution c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rite once, run anywhere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 Java VM per opera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766-2441-40CC-959D-1F6FD752C6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Java Runtime Environ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1301760" y="2063880"/>
            <a:ext cx="977760" cy="74916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.java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640" y="5318280"/>
            <a:ext cx="24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uilding 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xecutable in Java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560" y="2749680"/>
            <a:ext cx="2145960" cy="1511280"/>
            <a:chOff x="133560" y="2749680"/>
            <a:chExt cx="2145960" cy="1511280"/>
          </a:xfrm>
        </p:grpSpPr>
        <p:sp>
          <p:nvSpPr>
            <p:cNvPr id="97" name=""/>
            <p:cNvSpPr/>
            <p:nvPr/>
          </p:nvSpPr>
          <p:spPr>
            <a:xfrm>
              <a:off x="1301760" y="3511440"/>
              <a:ext cx="977760" cy="749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.clas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6680" y="2749680"/>
              <a:ext cx="291960" cy="901440"/>
            </a:xfrm>
            <a:prstGeom prst="downArrow">
              <a:avLst>
                <a:gd name="adj1" fmla="val 50000"/>
                <a:gd name="adj2" fmla="val 154391"/>
              </a:avLst>
            </a:prstGeom>
            <a:solidFill>
              <a:srgbClr val="3333cc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560" y="295596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.Compil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16160" y="2500200"/>
            <a:ext cx="6464160" cy="3665520"/>
            <a:chOff x="2216160" y="2500200"/>
            <a:chExt cx="6464160" cy="3665520"/>
          </a:xfrm>
        </p:grpSpPr>
        <p:sp>
          <p:nvSpPr>
            <p:cNvPr id="101" name=""/>
            <p:cNvSpPr/>
            <p:nvPr/>
          </p:nvSpPr>
          <p:spPr>
            <a:xfrm>
              <a:off x="6483240" y="5416560"/>
              <a:ext cx="2197080" cy="74916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3rd party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lass fil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68760" y="4862520"/>
              <a:ext cx="98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2.Link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16160" y="2500200"/>
              <a:ext cx="4863960" cy="2217960"/>
              <a:chOff x="2216160" y="2500200"/>
              <a:chExt cx="4863960" cy="2217960"/>
            </a:xfrm>
          </p:grpSpPr>
          <p:sp>
            <p:nvSpPr>
              <p:cNvPr id="104" name=""/>
              <p:cNvSpPr/>
              <p:nvPr/>
            </p:nvSpPr>
            <p:spPr>
              <a:xfrm>
                <a:off x="3511440" y="3054240"/>
                <a:ext cx="3568680" cy="1663920"/>
              </a:xfrm>
              <a:prstGeom prst="rect">
                <a:avLst/>
              </a:prstGeom>
              <a:solidFill>
                <a:srgbClr val="6699ff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Java VM for Windows 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00640" y="2500200"/>
                <a:ext cx="1396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2.Execut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6160" y="3740040"/>
                <a:ext cx="1434960" cy="292320"/>
              </a:xfrm>
              <a:prstGeom prst="rightArrow">
                <a:avLst>
                  <a:gd name="adj1" fmla="val 50000"/>
                  <a:gd name="adj2" fmla="val 245466"/>
                </a:avLst>
              </a:prstGeom>
              <a:solidFill>
                <a:srgbClr val="3333cc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83240" y="4654440"/>
              <a:ext cx="292320" cy="825480"/>
            </a:xfrm>
            <a:prstGeom prst="upArrow">
              <a:avLst>
                <a:gd name="adj1" fmla="val 50000"/>
                <a:gd name="adj2" fmla="val 141181"/>
              </a:avLst>
            </a:prstGeom>
            <a:solidFill>
              <a:srgbClr val="3333cc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510000" y="3054240"/>
            <a:ext cx="3568680" cy="166392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Java VM for AS400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3054240"/>
            <a:ext cx="3568680" cy="166392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Java VM for UNI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21080" y="3282840"/>
            <a:ext cx="672840" cy="1206720"/>
            <a:chOff x="2521080" y="3282840"/>
            <a:chExt cx="672840" cy="1206720"/>
          </a:xfrm>
        </p:grpSpPr>
        <p:sp>
          <p:nvSpPr>
            <p:cNvPr id="111" name=""/>
            <p:cNvSpPr/>
            <p:nvPr/>
          </p:nvSpPr>
          <p:spPr>
            <a:xfrm>
              <a:off x="2521080" y="3282840"/>
              <a:ext cx="672840" cy="36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I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1080" y="4121280"/>
              <a:ext cx="672840" cy="36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I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EA9-7A67-453C-9CA4-4A92F053EC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va Client Decis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Issu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has mature GUI panel design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client will be compared to C++ cli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ers will want to re-use existing pane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Issu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WT - ‘Awful Window Toolkit’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FC or AFC 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rowser incompatibilit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A8B-0CEF-4BA7-A728-5BCD1E8CC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ich Widgets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y JFC 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00% Pure Jav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livered as part of the JDK (1.2 onwards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ose match for Obsydian widgets and propert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need for new panel designer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vides cross platform look and fe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14F-9E05-4C45-A6AC-5A5621C21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FC Look And Feel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920" y="914400"/>
            <a:ext cx="5348880" cy="1755720"/>
            <a:chOff x="304920" y="914400"/>
            <a:chExt cx="5348880" cy="17557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04920" y="914400"/>
              <a:ext cx="38145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53760" y="141300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Window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00560" y="2209680"/>
            <a:ext cx="4957560" cy="1755720"/>
            <a:chOff x="1600560" y="2209680"/>
            <a:chExt cx="4957560" cy="175572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743200" y="2209680"/>
              <a:ext cx="38149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600560" y="281916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Motif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0400" y="3505320"/>
            <a:ext cx="5643720" cy="1755720"/>
            <a:chOff x="3200400" y="3505320"/>
            <a:chExt cx="5643720" cy="17557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5029200" y="3505320"/>
              <a:ext cx="38149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0400" y="411516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Java Metal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39560" y="560376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acintosh, Java Organic, Java Vancouver and more to follow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F44-C26A-4109-BF0B-0F3E30C90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Browser Decis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Activ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lug in VM - executes instead of browsers V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ownloaded on request - not mandato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uarantees behavior across a range of brows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uarantees JDK compatibility - even with older browsers e.g. MS Explorer 3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ept in line with JDK rele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tscape no longer developing Navigator V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98 SYNON INTERNATIONAL USER CONFERENCE • ORLANDO, FL • U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377-50DF-49A9-A37F-0B91AD113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06:27:43Z</dcterms:created>
  <dc:creator>Whittman-Hart</dc:creator>
  <dc:description/>
  <dc:language>en-US</dc:language>
  <cp:lastModifiedBy>Mike Cahill</cp:lastModifiedBy>
  <cp:lastPrinted>1998-05-01T12:56:33Z</cp:lastPrinted>
  <dcterms:modified xsi:type="dcterms:W3CDTF">1998-05-18T18:47:03Z</dcterms:modified>
  <cp:revision>58</cp:revision>
  <dc:subject/>
  <dc:title>Java - Beyond the Hype</dc:title>
</cp:coreProperties>
</file>