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7E95-23BC-45D3-AD3C-4AB8BF6B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ly object orientated clas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degree of compatibility between ob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Synon developed pattern libraries must comply with ‘designed for Obsydian’ stand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ater emphasis on Windows and Java-based clien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ill sacrifice portability for functionality on client si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ater emphasis on building fast server ob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ater emphasis on technology enabling pattern librar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NT batch/job scheduling for examp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ss emphasis on foundation (OBASE type) clas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small number of server ob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only so many ways to Get One Inst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number of GUI and technology enabling ob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s that support keyboard based data entry as well as they support mouse based data enqui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library support for big ob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like SAP’s COM Customer and Order objects and San Francisco Object Model Classes and Common Business Objects  – for enterprise position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ication and business level pattern librari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such as SMA – for enterprise posit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9680" cy="34117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roductivity leverage in Obsydian is through re-use of pre-built desig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underway to develop a layered set of application patterns from the smallest, most granular to full vertical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as in the past Synon has developed most of lowest level patterns, patterns will be developed in conjunction with experienced Obsydian and industry applications develo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not dependent on the repository, the new Object Browser will be able to incrementally load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nformation? Multiple Pa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yle of working? Browser-base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8A9-E7F4-41D7-8BF8-AA53B23A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D8E-1266-43D9-8E46-4B56989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F61-9587-4876-9A25-A6D54AD0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490-E334-4E0B-A8CD-8E6CD2D9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977-7882-4BA1-8F50-9B7CE0E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28F-7D22-4350-9908-1D2761A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CDE-6EA9-4DD0-8533-A3EB0E1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724-BB6C-4BE5-903E-9937928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B66-34D8-46DE-ABEB-C92E1314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320-97A4-4CA4-AEB4-816648C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D6E-3B8E-4C1D-9E02-84684DE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BD4-AF39-436C-A821-C6168DC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70536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703920"/>
            <a:ext cx="4040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Synon International User Conference - May 7-9 19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70536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3E4E-EF8A-4E46-8DB7-6914219F9537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1998 Synon Inc.   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00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bsydian 3.0 and Beyon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417200" y="38862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hirley A. Fost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rector, Obsydian Developm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@synon.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828800" y="2209680"/>
            <a:ext cx="5722920" cy="4233960"/>
            <a:chOff x="1828800" y="2209680"/>
            <a:chExt cx="5722920" cy="4233960"/>
          </a:xfrm>
        </p:grpSpPr>
        <p:graphicFrame>
          <p:nvGraphicFramePr>
            <p:cNvPr id="123" name=""/>
            <p:cNvGraphicFramePr/>
            <p:nvPr/>
          </p:nvGraphicFramePr>
          <p:xfrm>
            <a:off x="1828800" y="2209680"/>
            <a:ext cx="5722920" cy="423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2209680"/>
                      <a:ext cx="5722920" cy="423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2458080" y="2838960"/>
            <a:ext cx="864360" cy="15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58080" y="2838960"/>
                      <a:ext cx="864360" cy="15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roup Model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ract 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3280" y="1173240"/>
            <a:ext cx="185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21520" y="3697200"/>
          <a:ext cx="2922480" cy="297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1520" y="3697200"/>
                    <a:ext cx="2922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ction Diagramm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llection Poi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Function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Function Y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Function Z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re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re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re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y pre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y pre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z pre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 Edit Point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Edit Point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Edit Point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ost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ost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y post X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 Post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y post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|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z post X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------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53960" y="2622600"/>
            <a:ext cx="6664680" cy="2963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anel Designer - ActiveX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hod scripting using Jscript, VBScrip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066760" y="1981080"/>
            <a:ext cx="6097680" cy="4569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anel Designer - ActiveX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active testing of ActiveX control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357720" y="3538440"/>
          <a:ext cx="2962080" cy="112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3538440"/>
                    <a:ext cx="29620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enerate and Buil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lter by implementation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S Developer Studio automation for 32bit applications - no more DOS box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8061480" cy="1676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ource Code Edito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ll scree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Runtime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id Column Sor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Background System Col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tab’ option on contr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638520" y="3681360"/>
          <a:ext cx="1873440" cy="2311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8520" y="3681360"/>
                    <a:ext cx="187344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MOND Non-UI Fe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for JAVA</a:t>
            </a:r>
            <a:r>
              <a:rPr b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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(server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end applications to the Inter/In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servers accessed by 16 or 32bit cli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-tier support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MOND Non-UI Fe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tive TCP/IP for AS/400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 and runtime applic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liminates need for 3rd party middlewa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32bit Debugger (including NT Server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up Model Licensing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gin; Add Libr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DBC Assimi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T Server threading (optional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T Server prin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Upgrade Consideratio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platform - Win95 or 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nels/Repor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BX controls in 32bit application designs must be replaced with ActiveX contr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6bit VBX controls no longer visible in panel designer (no effect in runtime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ptional 32bit panel defaul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r vs. bold fo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dented vs. flat bord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MOND (3.0) Goal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tive 32bit To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I and Usa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/Intranet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T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echn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Goals Beyond R3.0...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earna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er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tern Librar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posito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hanced Data Access/SQL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/Intranet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latfor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SPER (3.1)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Data Access</a:t>
            </a: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and SQL Enhancemen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ata Access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QL SELECT &lt;variable&gt;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DBC Multiple concurrent database connections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DBC 3.0 compliance and API suppor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BASE Get Sequential dynamic position/restric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cending keys - SQL and DDS par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 Server qualific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S/400, HP-UX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re JAVA verification via Sun test su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PI support for license requests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for NT and Oracle (OCI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cc66"/>
                </a:solidFill>
                <a:latin typeface="Arial"/>
              </a:rPr>
              <a:t>Last release supporting 16bit applications</a:t>
            </a:r>
            <a:endParaRPr b="1" lang="en-US" sz="19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JASPER - NT Oracle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2362320"/>
            <a:ext cx="8596440" cy="3276360"/>
            <a:chOff x="228600" y="2362320"/>
            <a:chExt cx="8596440" cy="3276360"/>
          </a:xfrm>
        </p:grpSpPr>
        <p:sp>
          <p:nvSpPr>
            <p:cNvPr id="163" name=""/>
            <p:cNvSpPr/>
            <p:nvPr/>
          </p:nvSpPr>
          <p:spPr>
            <a:xfrm>
              <a:off x="228600" y="2362320"/>
              <a:ext cx="2378160" cy="327636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600" y="251460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cc"/>
                  </a:solidFill>
                  <a:latin typeface="Times New Roman"/>
                </a:rPr>
                <a:t>Client</a:t>
              </a:r>
              <a:endParaRPr b="0" lang="en-US" sz="3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5400000">
              <a:off x="764280" y="3408840"/>
              <a:ext cx="1479600" cy="1630440"/>
            </a:xfrm>
            <a:prstGeom prst="rect">
              <a:avLst/>
            </a:prstGeom>
            <a:gradFill rotWithShape="0">
              <a:gsLst>
                <a:gs pos="0">
                  <a:srgbClr val="5e752f"/>
                </a:gs>
                <a:gs pos="5000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1260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Window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08600" y="2362320"/>
              <a:ext cx="2377800" cy="310824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84560" y="3809880"/>
              <a:ext cx="2225880" cy="14432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5400000"/>
            </a:gradFill>
            <a:ln w="1260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cc"/>
                  </a:solidFill>
                  <a:latin typeface="Times New Roman"/>
                </a:rPr>
                <a:t>NT</a:t>
              </a:r>
              <a:endParaRPr b="0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2240" y="23623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cc"/>
                  </a:solidFill>
                  <a:latin typeface="Times New Roman"/>
                </a:rPr>
                <a:t>Server</a:t>
              </a:r>
              <a:endParaRPr b="0" lang="en-US" sz="3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>
              <a:off x="6251040" y="4602960"/>
              <a:ext cx="1132920" cy="35640"/>
            </a:xfrm>
            <a:prstGeom prst="straightConnector1">
              <a:avLst/>
            </a:prstGeom>
            <a:ln w="7632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6479280" y="480060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OCI</a:t>
              </a:r>
              <a:endParaRPr b="0" lang="en-US" sz="2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20920" y="4260960"/>
              <a:ext cx="1717560" cy="61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29400" y="3605040"/>
              <a:ext cx="1295640" cy="1676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acle 8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PAL (3.5)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Patterns and Learnabilit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tern Librarie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tern-based Tutorial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ML Help - two path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earning-based; Tradi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 Intelligent par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fault instru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nony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ltiple Function Inherit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ild Pane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PAL - Pattern Librari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gh degree of pattern compatibility and reu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eater emphasis on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ndows and Java client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ilding fast server object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echnology enablement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nent support and integ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 and business level pattern librarie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ork in conjunction with OBASE, etc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t all Synon origina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attern Librari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28800" y="3276720"/>
            <a:ext cx="5334120" cy="838080"/>
            <a:chOff x="1828800" y="3276720"/>
            <a:chExt cx="5334120" cy="838080"/>
          </a:xfrm>
        </p:grpSpPr>
        <p:sp>
          <p:nvSpPr>
            <p:cNvPr id="179" name=""/>
            <p:cNvSpPr/>
            <p:nvPr/>
          </p:nvSpPr>
          <p:spPr>
            <a:xfrm>
              <a:off x="1828800" y="3276720"/>
              <a:ext cx="53341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siness Suppor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7400" y="358128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373392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828800" y="2362320"/>
            <a:ext cx="5334120" cy="838080"/>
            <a:chOff x="1828800" y="2362320"/>
            <a:chExt cx="5334120" cy="838080"/>
          </a:xfrm>
        </p:grpSpPr>
        <p:sp>
          <p:nvSpPr>
            <p:cNvPr id="183" name=""/>
            <p:cNvSpPr/>
            <p:nvPr/>
          </p:nvSpPr>
          <p:spPr>
            <a:xfrm>
              <a:off x="1828800" y="2362320"/>
              <a:ext cx="53341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rizontal Application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57400" y="243828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266688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5120" y="274320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51460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281952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828800" y="1447920"/>
            <a:ext cx="5334120" cy="838080"/>
            <a:chOff x="1828800" y="1447920"/>
            <a:chExt cx="5334120" cy="838080"/>
          </a:xfrm>
        </p:grpSpPr>
        <p:sp>
          <p:nvSpPr>
            <p:cNvPr id="190" name=""/>
            <p:cNvSpPr/>
            <p:nvPr/>
          </p:nvSpPr>
          <p:spPr>
            <a:xfrm>
              <a:off x="1828800" y="1447920"/>
              <a:ext cx="53341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rtical Application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5120" y="152388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167652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3720" y="182880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000" y="167652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2320" y="182880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0" y="198108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920" y="1600200"/>
              <a:ext cx="22860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12120" y="879480"/>
            <a:ext cx="6726960" cy="1406520"/>
            <a:chOff x="2112120" y="879480"/>
            <a:chExt cx="6726960" cy="1406520"/>
          </a:xfrm>
        </p:grpSpPr>
        <p:sp>
          <p:nvSpPr>
            <p:cNvPr id="199" name=""/>
            <p:cNvSpPr/>
            <p:nvPr/>
          </p:nvSpPr>
          <p:spPr>
            <a:xfrm>
              <a:off x="7010280" y="990720"/>
              <a:ext cx="1828800" cy="1295280"/>
            </a:xfrm>
            <a:prstGeom prst="wedgeEllipseCallout">
              <a:avLst>
                <a:gd name="adj1" fmla="val -59634"/>
                <a:gd name="adj2" fmla="val 3799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ail Banking,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uranc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2120" y="879480"/>
              <a:ext cx="43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Full Vertical Application Pattern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828800" y="5105520"/>
            <a:ext cx="5334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63868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548640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533412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518148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563868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8960" y="52567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Libs’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191120"/>
            <a:ext cx="5334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434340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49568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4648320"/>
            <a:ext cx="228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1828800"/>
            <a:ext cx="9144000" cy="4800600"/>
            <a:chOff x="0" y="1828800"/>
            <a:chExt cx="9144000" cy="4800600"/>
          </a:xfrm>
        </p:grpSpPr>
        <p:sp>
          <p:nvSpPr>
            <p:cNvPr id="216" name=""/>
            <p:cNvSpPr/>
            <p:nvPr/>
          </p:nvSpPr>
          <p:spPr>
            <a:xfrm>
              <a:off x="6705720" y="5105520"/>
              <a:ext cx="2438280" cy="1523880"/>
            </a:xfrm>
            <a:prstGeom prst="wedgeEllipseCallout">
              <a:avLst>
                <a:gd name="adj1" fmla="val -64259"/>
                <a:gd name="adj2" fmla="val -317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orage, Validation, 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veX,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w-level UI style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114800"/>
              <a:ext cx="1752480" cy="1523880"/>
            </a:xfrm>
            <a:prstGeom prst="wedgeEllipseCallout">
              <a:avLst>
                <a:gd name="adj1" fmla="val 64944"/>
                <a:gd name="adj2" fmla="val -3551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,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I Style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50920" y="1828800"/>
              <a:ext cx="5075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Libraries of small, granular component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Self-contained and targete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Highly reusabl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asy to find and understand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056320" y="2057400"/>
            <a:ext cx="7087680" cy="2590920"/>
            <a:chOff x="2056320" y="2057400"/>
            <a:chExt cx="7087680" cy="2590920"/>
          </a:xfrm>
        </p:grpSpPr>
        <p:sp>
          <p:nvSpPr>
            <p:cNvPr id="220" name=""/>
            <p:cNvSpPr/>
            <p:nvPr/>
          </p:nvSpPr>
          <p:spPr>
            <a:xfrm>
              <a:off x="6781680" y="2971800"/>
              <a:ext cx="2362320" cy="1676520"/>
            </a:xfrm>
            <a:prstGeom prst="wedgeEllipseCallout">
              <a:avLst>
                <a:gd name="adj1" fmla="val -70967"/>
                <a:gd name="adj2" fmla="val -9564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flow,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Processing,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urity, Archiving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6320" y="2057400"/>
              <a:ext cx="362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Reusable Business Objects  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0" y="1336680"/>
            <a:ext cx="7644960" cy="2244600"/>
            <a:chOff x="0" y="1336680"/>
            <a:chExt cx="7644960" cy="2244600"/>
          </a:xfrm>
        </p:grpSpPr>
        <p:sp>
          <p:nvSpPr>
            <p:cNvPr id="223" name=""/>
            <p:cNvSpPr/>
            <p:nvPr/>
          </p:nvSpPr>
          <p:spPr>
            <a:xfrm>
              <a:off x="0" y="2286000"/>
              <a:ext cx="1752480" cy="1295280"/>
            </a:xfrm>
            <a:prstGeom prst="wedgeEllipseCallout">
              <a:avLst>
                <a:gd name="adj1" fmla="val 90490"/>
                <a:gd name="adj2" fmla="val -21199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ventory, 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/R, A/P, G/L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10320" y="1336680"/>
              <a:ext cx="55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Patterns supporting all types of applications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PAL (3.5) continued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 in-line API, Message and Source code edi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rformance Improvements (AD and Panel load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ject Browser improv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spect button is back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ject sorting across librar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LL-ized to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hanced MTS integ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LS Translation to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ng filename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n98 tool and application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 compati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PAL (3.5) - HP-UX 11 and Oracle 8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2362320"/>
            <a:ext cx="2378160" cy="327636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600" y="251460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Clien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 rot="5400000">
            <a:off x="764280" y="3408840"/>
            <a:ext cx="1479600" cy="163044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50000">
                <a:srgbClr val="ccff66"/>
              </a:gs>
              <a:gs pos="100000">
                <a:srgbClr val="5e752f"/>
              </a:gs>
            </a:gsLst>
            <a:lin ang="10800000"/>
          </a:gradFill>
          <a:ln w="1260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08600" y="2362320"/>
            <a:ext cx="2377800" cy="310824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84560" y="3809880"/>
            <a:ext cx="2225880" cy="14432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0800000"/>
          </a:gradFill>
          <a:ln w="1260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HP-UX 1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2240" y="236232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Serv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34" name=""/>
          <p:cNvCxnSpPr/>
          <p:nvPr/>
        </p:nvCxnSpPr>
        <p:spPr>
          <a:xfrm flipV="1">
            <a:off x="6251040" y="4602960"/>
            <a:ext cx="1132920" cy="35640"/>
          </a:xfrm>
          <a:prstGeom prst="straightConnector1">
            <a:avLst/>
          </a:prstGeom>
          <a:ln w="7632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312240" y="474804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OCI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20920" y="4260960"/>
            <a:ext cx="1717560" cy="6120"/>
          </a:xfrm>
          <a:prstGeom prst="line">
            <a:avLst/>
          </a:prstGeom>
          <a:ln w="5724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29400" y="3605040"/>
            <a:ext cx="1295640" cy="167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cle 8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ARTZ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Components and The Internet/Intrane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nent Import and U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nent-based Patter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for JAVA (Client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tive Windows GUI controls (phase I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nel Splitt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hanced Diagramm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-defined Bitmaps for Objec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rther Data Access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atabase functions (stored procedures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lob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QL Server 7.0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ARTZ - Component Model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11640" y="1828800"/>
            <a:ext cx="7796520" cy="3885840"/>
            <a:chOff x="611640" y="1828800"/>
            <a:chExt cx="7796520" cy="3885840"/>
          </a:xfrm>
        </p:grpSpPr>
        <p:sp>
          <p:nvSpPr>
            <p:cNvPr id="242" name=""/>
            <p:cNvSpPr/>
            <p:nvPr/>
          </p:nvSpPr>
          <p:spPr>
            <a:xfrm>
              <a:off x="3800520" y="1994400"/>
              <a:ext cx="1181520" cy="818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8080" y="2862720"/>
              <a:ext cx="1178640" cy="8190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1400" y="2829600"/>
              <a:ext cx="1178640" cy="81864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17080" y="4896000"/>
              <a:ext cx="1178280" cy="8186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method)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45160" y="3781080"/>
              <a:ext cx="1178280" cy="8186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iel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property)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076120" y="2256840"/>
              <a:ext cx="0" cy="60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76120" y="2272320"/>
              <a:ext cx="174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82400" y="232200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19600" y="2322000"/>
              <a:ext cx="0" cy="50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7080" y="3354120"/>
              <a:ext cx="3424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91960" y="3648240"/>
              <a:ext cx="0" cy="174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023440" y="4108680"/>
              <a:ext cx="1568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001840" y="5383800"/>
              <a:ext cx="158940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22040" y="1828800"/>
              <a:ext cx="182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KG component COM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30160" y="3035880"/>
              <a:ext cx="180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M implements INT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85720" y="1828800"/>
              <a:ext cx="154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KG interface INT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7000" y="3330000"/>
              <a:ext cx="31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32720" y="2446920"/>
              <a:ext cx="0" cy="88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01280" y="2446920"/>
              <a:ext cx="63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999840" y="2446920"/>
              <a:ext cx="1440" cy="39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240920" y="2535120"/>
              <a:ext cx="673920" cy="785520"/>
              <a:chOff x="1240920" y="2535120"/>
              <a:chExt cx="673920" cy="78552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1240920" y="3320640"/>
                <a:ext cx="286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255320" y="2551320"/>
                <a:ext cx="0" cy="76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40920" y="2535120"/>
                <a:ext cx="673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00800" y="2567880"/>
                <a:ext cx="0" cy="31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11640" y="218196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M is a COM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99120" y="1828800"/>
              <a:ext cx="140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 is a INT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 extends INT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0400" y="367956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 property FLD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86080" y="4975200"/>
              <a:ext cx="144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INT method FNC</a:t>
              </a:r>
              <a:endParaRPr b="0" lang="en-US" sz="1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MOND Feature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lease Candidate 1 - Nov 24th 1997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ll General Availability - January 19th 1998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inimal Upgrade from 2.5/2.51/2.51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agrammer - inheritance and resolved rel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up Model - Extract 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tion Diagram - Collection Poi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&amp;Build - filtering and Dev Studio auto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32bit Debugg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S/400 TCP/IP conne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QUARTZ - JAVA Client Genera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23880"/>
            <a:ext cx="2378160" cy="426744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46400"/>
            <a:ext cx="2225520" cy="3468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rows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Java Activato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6640" y="15238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Clien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 rot="5400000">
            <a:off x="1450080" y="3561480"/>
            <a:ext cx="1479600" cy="163044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50000">
                <a:srgbClr val="ccff66"/>
              </a:gs>
              <a:gs pos="100000">
                <a:srgbClr val="5e752f"/>
              </a:gs>
            </a:gsLst>
            <a:lin ang="10800000"/>
          </a:gradFill>
          <a:ln w="1260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Java Cli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94400" y="1579680"/>
            <a:ext cx="2377800" cy="404316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70360" y="3962520"/>
            <a:ext cx="2225880" cy="14428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lin ang="5400000"/>
          </a:gradFill>
          <a:ln w="1260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2666880"/>
            <a:ext cx="1717560" cy="1764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57000" y="1579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Serv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1120" y="4572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ocke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endCxn id="275" idx="1"/>
          </p:cNvCxnSpPr>
          <p:nvPr/>
        </p:nvCxnSpPr>
        <p:spPr>
          <a:xfrm flipV="1" rot="10800000">
            <a:off x="2188440" y="3123000"/>
            <a:ext cx="2483640" cy="515160"/>
          </a:xfrm>
          <a:prstGeom prst="bentConnector2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8069400" y="3889440"/>
            <a:ext cx="1074600" cy="1733400"/>
          </a:xfrm>
          <a:prstGeom prst="flowChartMagneticDisk">
            <a:avLst/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endCxn id="282" idx="2"/>
          </p:cNvCxnSpPr>
          <p:nvPr/>
        </p:nvCxnSpPr>
        <p:spPr>
          <a:xfrm flipV="1">
            <a:off x="6936840" y="4755600"/>
            <a:ext cx="1132920" cy="35640"/>
          </a:xfrm>
          <a:prstGeom prst="straightConnector1">
            <a:avLst/>
          </a:prstGeom>
          <a:ln w="7632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6998760" y="49006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JDBC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 rot="5400000">
            <a:off x="4921200" y="2190600"/>
            <a:ext cx="1481040" cy="163044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50000">
                <a:srgbClr val="ccff66"/>
              </a:gs>
              <a:gs pos="100000">
                <a:srgbClr val="5e752f"/>
              </a:gs>
            </a:gsLst>
            <a:lin ang="10800000"/>
          </a:gradFill>
          <a:ln w="12600">
            <a:solidFill>
              <a:srgbClr val="99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Java Clien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06720" y="4413240"/>
            <a:ext cx="1717560" cy="6480"/>
          </a:xfrm>
          <a:prstGeom prst="line">
            <a:avLst/>
          </a:prstGeom>
          <a:ln w="5724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APPHIR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Components and Learnabilit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 - extend and impl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untime Backward Compati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Learnability Enhanc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hanced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 and Build Wizar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tern Objec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B-iz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Native Windows GUI Contr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T 5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compatibility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APPHIRE - COM Implementation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7720" y="3124080"/>
            <a:ext cx="2608920" cy="1523880"/>
            <a:chOff x="837720" y="3124080"/>
            <a:chExt cx="2608920" cy="1523880"/>
          </a:xfrm>
        </p:grpSpPr>
        <p:sp>
          <p:nvSpPr>
            <p:cNvPr id="291" name=""/>
            <p:cNvSpPr/>
            <p:nvPr/>
          </p:nvSpPr>
          <p:spPr>
            <a:xfrm>
              <a:off x="1882440" y="3124080"/>
              <a:ext cx="482040" cy="335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6240" y="3479400"/>
              <a:ext cx="482040" cy="33624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45440" y="3466080"/>
              <a:ext cx="482040" cy="33588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89280" y="4313520"/>
              <a:ext cx="480960" cy="3344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0440" y="3856680"/>
              <a:ext cx="480600" cy="3344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177560" y="3232440"/>
              <a:ext cx="0" cy="24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77560" y="3238560"/>
              <a:ext cx="711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4480" y="3258000"/>
              <a:ext cx="621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1960" y="3258000"/>
              <a:ext cx="0" cy="20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8640" y="3681720"/>
              <a:ext cx="139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2200" y="3802320"/>
              <a:ext cx="0" cy="71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381040" y="3990600"/>
              <a:ext cx="64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372760" y="4512240"/>
              <a:ext cx="649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8120" y="3671280"/>
              <a:ext cx="128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446640" y="3308760"/>
              <a:ext cx="0" cy="3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189240" y="3309120"/>
              <a:ext cx="25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7800" y="3309120"/>
              <a:ext cx="1080" cy="16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837720" y="3345480"/>
              <a:ext cx="275040" cy="322560"/>
              <a:chOff x="837720" y="3345480"/>
              <a:chExt cx="275040" cy="322560"/>
            </a:xfrm>
          </p:grpSpPr>
          <p:sp>
            <p:nvSpPr>
              <p:cNvPr id="309" name=""/>
              <p:cNvSpPr/>
              <p:nvPr/>
            </p:nvSpPr>
            <p:spPr>
              <a:xfrm flipH="1">
                <a:off x="837720" y="3668040"/>
                <a:ext cx="117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843480" y="3351600"/>
                <a:ext cx="0" cy="31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080" y="3345480"/>
                <a:ext cx="274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6640" y="3358800"/>
                <a:ext cx="0" cy="12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8006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5029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4419720"/>
            <a:ext cx="533520" cy="914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755e2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62920" y="3200400"/>
            <a:ext cx="1066320" cy="914400"/>
            <a:chOff x="7162920" y="3200400"/>
            <a:chExt cx="1066320" cy="914400"/>
          </a:xfrm>
        </p:grpSpPr>
        <p:sp>
          <p:nvSpPr>
            <p:cNvPr id="321" name=""/>
            <p:cNvSpPr/>
            <p:nvPr/>
          </p:nvSpPr>
          <p:spPr>
            <a:xfrm>
              <a:off x="7162920" y="3429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2920" y="35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62920" y="3733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38880" y="350532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38880" y="365760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8880" y="380988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96080" y="3200400"/>
              <a:ext cx="533160" cy="914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553080" y="22860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24382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236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2057400"/>
            <a:ext cx="53352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2f7517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2133720"/>
            <a:ext cx="3276360" cy="350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ydian Repository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429000"/>
            <a:ext cx="1828800" cy="1219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1828800"/>
            <a:ext cx="266724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038240" y="1709640"/>
            <a:ext cx="7067520" cy="3438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APPHIRE - Learnability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042920" y="1704960"/>
            <a:ext cx="7058160" cy="34480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APPHIRE - Learnability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APPHIRE - Learnability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nhanced Object Browser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057320" y="1704960"/>
            <a:ext cx="7029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PAZ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 Black"/>
              </a:rPr>
              <a:t>Repository and JAVA Bean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bsydian Reposito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AVA/Enterprise Bea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ort, Use, Extend, Impl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an Francisco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PAZ - Repository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1143000"/>
            <a:ext cx="5562360" cy="5152680"/>
            <a:chOff x="0" y="1143000"/>
            <a:chExt cx="5562360" cy="5152680"/>
          </a:xfrm>
        </p:grpSpPr>
        <p:sp>
          <p:nvSpPr>
            <p:cNvPr id="350" name=""/>
            <p:cNvSpPr/>
            <p:nvPr/>
          </p:nvSpPr>
          <p:spPr>
            <a:xfrm>
              <a:off x="2836440" y="1143000"/>
              <a:ext cx="2725920" cy="13154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88760" y="1727640"/>
              <a:ext cx="159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ydian Tool</a:t>
              </a:r>
              <a:endParaRPr b="0" lang="en-US" sz="1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6440" y="2897280"/>
              <a:ext cx="2725920" cy="109620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64000" y="340704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Repository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80400" y="2458440"/>
              <a:ext cx="1440" cy="380520"/>
            </a:xfrm>
            <a:custGeom>
              <a:avLst/>
              <a:gdLst/>
              <a:ahLst/>
              <a:rect l="l" t="t" r="r" b="b"/>
              <a:pathLst>
                <a:path w="0" h="250">
                  <a:moveTo>
                    <a:pt x="0" y="0"/>
                  </a:moveTo>
                  <a:lnTo>
                    <a:pt x="0" y="144"/>
                  </a:lnTo>
                  <a:lnTo>
                    <a:pt x="0" y="25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48360" y="2829960"/>
              <a:ext cx="66960" cy="66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1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8760" y="2458440"/>
              <a:ext cx="1080" cy="380520"/>
            </a:xfrm>
            <a:custGeom>
              <a:avLst/>
              <a:gdLst/>
              <a:ahLst/>
              <a:rect l="l" t="t" r="r" b="b"/>
              <a:pathLst>
                <a:path w="0" h="250">
                  <a:moveTo>
                    <a:pt x="0" y="0"/>
                  </a:moveTo>
                  <a:lnTo>
                    <a:pt x="0" y="144"/>
                  </a:lnTo>
                  <a:lnTo>
                    <a:pt x="0" y="25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3840" y="2829960"/>
              <a:ext cx="67680" cy="6696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lnTo>
                    <a:pt x="23" y="44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36440" y="4540320"/>
              <a:ext cx="2725920" cy="4399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3960" y="4655880"/>
              <a:ext cx="57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DB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01920" y="3993480"/>
              <a:ext cx="1440" cy="488520"/>
            </a:xfrm>
            <a:custGeom>
              <a:avLst/>
              <a:gdLst/>
              <a:ahLst/>
              <a:rect l="l" t="t" r="r" b="b"/>
              <a:pathLst>
                <a:path w="0" h="321">
                  <a:moveTo>
                    <a:pt x="0" y="0"/>
                  </a:moveTo>
                  <a:lnTo>
                    <a:pt x="0" y="181"/>
                  </a:lnTo>
                  <a:lnTo>
                    <a:pt x="0" y="3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67000" y="4473360"/>
              <a:ext cx="66600" cy="669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3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944080" y="5336640"/>
              <a:ext cx="654480" cy="959040"/>
              <a:chOff x="2944080" y="5336640"/>
              <a:chExt cx="654480" cy="959040"/>
            </a:xfrm>
          </p:grpSpPr>
          <p:sp>
            <p:nvSpPr>
              <p:cNvPr id="363" name=""/>
              <p:cNvSpPr/>
              <p:nvPr/>
            </p:nvSpPr>
            <p:spPr>
              <a:xfrm>
                <a:off x="2944080" y="5336640"/>
                <a:ext cx="654480" cy="959040"/>
              </a:xfrm>
              <a:custGeom>
                <a:avLst/>
                <a:gdLst/>
                <a:ahLst/>
                <a:rect l="l" t="t" r="r" b="b"/>
                <a:pathLst>
                  <a:path w="432" h="630">
                    <a:moveTo>
                      <a:pt x="0" y="576"/>
                    </a:moveTo>
                    <a:lnTo>
                      <a:pt x="0" y="54"/>
                    </a:lnTo>
                    <a:lnTo>
                      <a:pt x="52" y="30"/>
                    </a:lnTo>
                    <a:lnTo>
                      <a:pt x="106" y="13"/>
                    </a:lnTo>
                    <a:lnTo>
                      <a:pt x="162" y="4"/>
                    </a:lnTo>
                    <a:lnTo>
                      <a:pt x="217" y="0"/>
                    </a:lnTo>
                    <a:lnTo>
                      <a:pt x="273" y="4"/>
                    </a:lnTo>
                    <a:lnTo>
                      <a:pt x="329" y="13"/>
                    </a:lnTo>
                    <a:lnTo>
                      <a:pt x="382" y="30"/>
                    </a:lnTo>
                    <a:lnTo>
                      <a:pt x="432" y="54"/>
                    </a:lnTo>
                    <a:lnTo>
                      <a:pt x="432" y="576"/>
                    </a:lnTo>
                    <a:lnTo>
                      <a:pt x="382" y="599"/>
                    </a:lnTo>
                    <a:lnTo>
                      <a:pt x="329" y="616"/>
                    </a:lnTo>
                    <a:lnTo>
                      <a:pt x="273" y="628"/>
                    </a:lnTo>
                    <a:lnTo>
                      <a:pt x="217" y="630"/>
                    </a:lnTo>
                    <a:lnTo>
                      <a:pt x="162" y="628"/>
                    </a:lnTo>
                    <a:lnTo>
                      <a:pt x="106" y="616"/>
                    </a:lnTo>
                    <a:lnTo>
                      <a:pt x="52" y="599"/>
                    </a:lnTo>
                    <a:lnTo>
                      <a:pt x="0" y="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3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4080" y="5418720"/>
                <a:ext cx="654480" cy="83880"/>
              </a:xfrm>
              <a:custGeom>
                <a:avLst/>
                <a:gdLst/>
                <a:ahLst/>
                <a:rect l="l" t="t" r="r" b="b"/>
                <a:pathLst>
                  <a:path w="432" h="55">
                    <a:moveTo>
                      <a:pt x="0" y="0"/>
                    </a:moveTo>
                    <a:lnTo>
                      <a:pt x="52" y="24"/>
                    </a:lnTo>
                    <a:lnTo>
                      <a:pt x="106" y="40"/>
                    </a:lnTo>
                    <a:lnTo>
                      <a:pt x="162" y="51"/>
                    </a:lnTo>
                    <a:lnTo>
                      <a:pt x="217" y="55"/>
                    </a:lnTo>
                    <a:lnTo>
                      <a:pt x="273" y="51"/>
                    </a:lnTo>
                    <a:lnTo>
                      <a:pt x="329" y="40"/>
                    </a:lnTo>
                    <a:lnTo>
                      <a:pt x="382" y="24"/>
                    </a:lnTo>
                    <a:lnTo>
                      <a:pt x="432" y="0"/>
                    </a:lnTo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6200000">
                <a:off x="2812320" y="5671440"/>
                <a:ext cx="743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6200000">
                <a:off x="3034440" y="5669640"/>
                <a:ext cx="73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689720" y="5336640"/>
              <a:ext cx="654480" cy="959040"/>
            </a:xfrm>
            <a:custGeom>
              <a:avLst/>
              <a:gdLst/>
              <a:ahLst/>
              <a:rect l="l" t="t" r="r" b="b"/>
              <a:pathLst>
                <a:path w="432" h="630">
                  <a:moveTo>
                    <a:pt x="0" y="576"/>
                  </a:moveTo>
                  <a:lnTo>
                    <a:pt x="0" y="54"/>
                  </a:lnTo>
                  <a:lnTo>
                    <a:pt x="52" y="30"/>
                  </a:lnTo>
                  <a:lnTo>
                    <a:pt x="106" y="13"/>
                  </a:lnTo>
                  <a:lnTo>
                    <a:pt x="162" y="4"/>
                  </a:lnTo>
                  <a:lnTo>
                    <a:pt x="217" y="0"/>
                  </a:lnTo>
                  <a:lnTo>
                    <a:pt x="273" y="4"/>
                  </a:lnTo>
                  <a:lnTo>
                    <a:pt x="329" y="13"/>
                  </a:lnTo>
                  <a:lnTo>
                    <a:pt x="383" y="30"/>
                  </a:lnTo>
                  <a:lnTo>
                    <a:pt x="432" y="54"/>
                  </a:lnTo>
                  <a:lnTo>
                    <a:pt x="432" y="576"/>
                  </a:lnTo>
                  <a:lnTo>
                    <a:pt x="383" y="599"/>
                  </a:lnTo>
                  <a:lnTo>
                    <a:pt x="329" y="616"/>
                  </a:lnTo>
                  <a:lnTo>
                    <a:pt x="273" y="628"/>
                  </a:lnTo>
                  <a:lnTo>
                    <a:pt x="217" y="630"/>
                  </a:lnTo>
                  <a:lnTo>
                    <a:pt x="162" y="628"/>
                  </a:lnTo>
                  <a:lnTo>
                    <a:pt x="106" y="616"/>
                  </a:lnTo>
                  <a:lnTo>
                    <a:pt x="52" y="599"/>
                  </a:lnTo>
                  <a:lnTo>
                    <a:pt x="0" y="57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89720" y="5418720"/>
              <a:ext cx="654480" cy="83880"/>
            </a:xfrm>
            <a:custGeom>
              <a:avLst/>
              <a:gdLst/>
              <a:ahLst/>
              <a:rect l="l" t="t" r="r" b="b"/>
              <a:pathLst>
                <a:path w="432" h="55">
                  <a:moveTo>
                    <a:pt x="0" y="0"/>
                  </a:moveTo>
                  <a:lnTo>
                    <a:pt x="52" y="24"/>
                  </a:lnTo>
                  <a:lnTo>
                    <a:pt x="106" y="40"/>
                  </a:lnTo>
                  <a:lnTo>
                    <a:pt x="162" y="51"/>
                  </a:lnTo>
                  <a:lnTo>
                    <a:pt x="217" y="55"/>
                  </a:lnTo>
                  <a:lnTo>
                    <a:pt x="273" y="51"/>
                  </a:lnTo>
                  <a:lnTo>
                    <a:pt x="329" y="40"/>
                  </a:lnTo>
                  <a:lnTo>
                    <a:pt x="383" y="24"/>
                  </a:lnTo>
                  <a:lnTo>
                    <a:pt x="432" y="0"/>
                  </a:lnTo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4622040" y="5673600"/>
              <a:ext cx="69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4780440" y="567036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0040" y="4980240"/>
              <a:ext cx="74160" cy="401760"/>
            </a:xfrm>
            <a:custGeom>
              <a:avLst/>
              <a:gdLst/>
              <a:ahLst/>
              <a:rect l="l" t="t" r="r" b="b"/>
              <a:pathLst>
                <a:path w="0" h="195">
                  <a:moveTo>
                    <a:pt x="0" y="0"/>
                  </a:moveTo>
                  <a:lnTo>
                    <a:pt x="0" y="117"/>
                  </a:lnTo>
                  <a:lnTo>
                    <a:pt x="0" y="19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8760" y="4943520"/>
              <a:ext cx="74160" cy="402120"/>
            </a:xfrm>
            <a:custGeom>
              <a:avLst/>
              <a:gdLst/>
              <a:ahLst/>
              <a:rect l="l" t="t" r="r" b="b"/>
              <a:pathLst>
                <a:path w="0" h="195">
                  <a:moveTo>
                    <a:pt x="0" y="0"/>
                  </a:moveTo>
                  <a:lnTo>
                    <a:pt x="0" y="117"/>
                  </a:lnTo>
                  <a:lnTo>
                    <a:pt x="0" y="195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2897280"/>
              <a:ext cx="1707840" cy="1096200"/>
            </a:xfrm>
            <a:prstGeom prst="rect">
              <a:avLst/>
            </a:prstGeom>
            <a:gradFill rotWithShape="0">
              <a:gsLst>
                <a:gs pos="0">
                  <a:srgbClr val="752f5e"/>
                </a:gs>
                <a:gs pos="100000">
                  <a:srgbClr val="ff66cc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00" y="3337200"/>
              <a:ext cx="165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rd Party Tool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5560" y="2897280"/>
              <a:ext cx="325440" cy="1096200"/>
            </a:xfrm>
            <a:prstGeom prst="rect">
              <a:avLst/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123800">
              <a:off x="2401920" y="32868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I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2560" y="3481920"/>
              <a:ext cx="87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40" y="4358880"/>
              <a:ext cx="1163880" cy="1827360"/>
            </a:xfrm>
            <a:custGeom>
              <a:avLst/>
              <a:gdLst/>
              <a:ahLst/>
              <a:rect l="l" t="t" r="r" b="b"/>
              <a:pathLst>
                <a:path w="432" h="630">
                  <a:moveTo>
                    <a:pt x="0" y="576"/>
                  </a:moveTo>
                  <a:lnTo>
                    <a:pt x="0" y="54"/>
                  </a:lnTo>
                  <a:lnTo>
                    <a:pt x="52" y="30"/>
                  </a:lnTo>
                  <a:lnTo>
                    <a:pt x="106" y="13"/>
                  </a:lnTo>
                  <a:lnTo>
                    <a:pt x="162" y="4"/>
                  </a:lnTo>
                  <a:lnTo>
                    <a:pt x="217" y="0"/>
                  </a:lnTo>
                  <a:lnTo>
                    <a:pt x="273" y="4"/>
                  </a:lnTo>
                  <a:lnTo>
                    <a:pt x="329" y="13"/>
                  </a:lnTo>
                  <a:lnTo>
                    <a:pt x="382" y="30"/>
                  </a:lnTo>
                  <a:lnTo>
                    <a:pt x="432" y="54"/>
                  </a:lnTo>
                  <a:lnTo>
                    <a:pt x="432" y="576"/>
                  </a:lnTo>
                  <a:lnTo>
                    <a:pt x="382" y="599"/>
                  </a:lnTo>
                  <a:lnTo>
                    <a:pt x="329" y="616"/>
                  </a:lnTo>
                  <a:lnTo>
                    <a:pt x="273" y="628"/>
                  </a:lnTo>
                  <a:lnTo>
                    <a:pt x="217" y="630"/>
                  </a:lnTo>
                  <a:lnTo>
                    <a:pt x="162" y="628"/>
                  </a:lnTo>
                  <a:lnTo>
                    <a:pt x="106" y="616"/>
                  </a:lnTo>
                  <a:lnTo>
                    <a:pt x="52" y="599"/>
                  </a:lnTo>
                  <a:lnTo>
                    <a:pt x="0" y="576"/>
                  </a:lnTo>
                  <a:close/>
                </a:path>
              </a:pathLst>
            </a:cu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6320" y="4515840"/>
              <a:ext cx="1105920" cy="159840"/>
            </a:xfrm>
            <a:custGeom>
              <a:avLst/>
              <a:gdLst/>
              <a:ahLst/>
              <a:rect l="l" t="t" r="r" b="b"/>
              <a:pathLst>
                <a:path w="432" h="55">
                  <a:moveTo>
                    <a:pt x="0" y="0"/>
                  </a:moveTo>
                  <a:lnTo>
                    <a:pt x="52" y="24"/>
                  </a:lnTo>
                  <a:lnTo>
                    <a:pt x="106" y="40"/>
                  </a:lnTo>
                  <a:lnTo>
                    <a:pt x="162" y="51"/>
                  </a:lnTo>
                  <a:lnTo>
                    <a:pt x="217" y="55"/>
                  </a:lnTo>
                  <a:lnTo>
                    <a:pt x="273" y="51"/>
                  </a:lnTo>
                  <a:lnTo>
                    <a:pt x="329" y="40"/>
                  </a:lnTo>
                  <a:lnTo>
                    <a:pt x="382" y="24"/>
                  </a:lnTo>
                  <a:lnTo>
                    <a:pt x="432" y="0"/>
                  </a:lnTo>
                </a:path>
              </a:pathLst>
            </a:cu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7400" y="5383800"/>
              <a:ext cx="105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527120" y="3700800"/>
              <a:ext cx="1018080" cy="1680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0440" y="50882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864400" y="4419720"/>
            <a:ext cx="26172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pository APIs/3r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rty Integra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4720" y="3594240"/>
            <a:ext cx="273168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ser defined Object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d Verb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78800" y="5638680"/>
            <a:ext cx="326808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ll Impact Analysi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d Change Managem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94840" y="1282680"/>
            <a:ext cx="2733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ayered Architectur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1400" y="1676520"/>
            <a:ext cx="322236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mproved scalability and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73680" y="2514600"/>
            <a:ext cx="248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ified GM and LM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88800" y="3048120"/>
            <a:ext cx="2784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P’s by configura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5040" y="5791320"/>
            <a:ext cx="184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79160" y="5181480"/>
            <a:ext cx="26020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py model object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PAZ - JAVA Beans/San Francisco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371600"/>
            <a:ext cx="289584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ydian Repository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1905120"/>
            <a:ext cx="45720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2438280"/>
            <a:ext cx="45720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2438280"/>
            <a:ext cx="45720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438280"/>
            <a:ext cx="45720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52920" y="1447200"/>
            <a:ext cx="2166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Francisco Patterns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7400" y="1905120"/>
            <a:ext cx="45720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200400"/>
            <a:ext cx="1828800" cy="1219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Bean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endCxn id="400" idx="0"/>
          </p:cNvCxnSpPr>
          <p:nvPr/>
        </p:nvCxnSpPr>
        <p:spPr>
          <a:xfrm>
            <a:off x="3504960" y="2400480"/>
            <a:ext cx="1600920" cy="80064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1447920" y="6172200"/>
            <a:ext cx="1904760" cy="4572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2485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057400" y="594324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57400" y="487656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3657600"/>
            <a:ext cx="1067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1523880"/>
            <a:ext cx="243864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373392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6483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10280" y="48006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10280" y="49528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8660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86600" y="5029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4419720"/>
            <a:ext cx="533520" cy="914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755e2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0120" y="3200400"/>
            <a:ext cx="1066320" cy="914400"/>
            <a:chOff x="7620120" y="3200400"/>
            <a:chExt cx="1066320" cy="914400"/>
          </a:xfrm>
        </p:grpSpPr>
        <p:sp>
          <p:nvSpPr>
            <p:cNvPr id="417" name=""/>
            <p:cNvSpPr/>
            <p:nvPr/>
          </p:nvSpPr>
          <p:spPr>
            <a:xfrm>
              <a:off x="7620120" y="3429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0120" y="35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96080" y="350532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96080" y="365760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6080" y="380988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53280" y="3200400"/>
              <a:ext cx="533160" cy="9144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5e5e75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010280" y="22860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24382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25909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236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8660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3800" y="2057400"/>
            <a:ext cx="53352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1828800"/>
            <a:ext cx="380880" cy="3657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6760" y="5410080"/>
            <a:ext cx="23187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ed SF Beans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790960"/>
            <a:ext cx="12258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F Beans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0" y="6172200"/>
            <a:ext cx="17107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 Wizard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5486400"/>
            <a:ext cx="2514600" cy="4572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200" y="5486400"/>
            <a:ext cx="245880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 Manager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066680" y="3124080"/>
            <a:ext cx="1922760" cy="1066680"/>
            <a:chOff x="1066680" y="3124080"/>
            <a:chExt cx="1922760" cy="1066680"/>
          </a:xfrm>
        </p:grpSpPr>
        <p:sp>
          <p:nvSpPr>
            <p:cNvPr id="438" name=""/>
            <p:cNvSpPr/>
            <p:nvPr/>
          </p:nvSpPr>
          <p:spPr>
            <a:xfrm>
              <a:off x="1836360" y="3124080"/>
              <a:ext cx="355320" cy="235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1360" y="3372840"/>
              <a:ext cx="355320" cy="23544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6280" y="3363480"/>
              <a:ext cx="355320" cy="23508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41400" y="3956760"/>
              <a:ext cx="354240" cy="2340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49680" y="3636720"/>
              <a:ext cx="354240" cy="23400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316880" y="3199680"/>
              <a:ext cx="0" cy="17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6880" y="3204000"/>
              <a:ext cx="52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91680" y="3217680"/>
              <a:ext cx="45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54280" y="3217680"/>
              <a:ext cx="0" cy="14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16680" y="3514320"/>
              <a:ext cx="1029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76600" y="3598920"/>
              <a:ext cx="0" cy="49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2203920" y="3730680"/>
              <a:ext cx="47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97800" y="4096080"/>
              <a:ext cx="4784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4760" y="3507120"/>
              <a:ext cx="9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989440" y="3253680"/>
              <a:ext cx="0" cy="25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800080" y="3253680"/>
              <a:ext cx="18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799000" y="3253680"/>
              <a:ext cx="720" cy="114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066680" y="3278880"/>
              <a:ext cx="202320" cy="225720"/>
              <a:chOff x="1066680" y="3278880"/>
              <a:chExt cx="202320" cy="22572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1066680" y="3504600"/>
                <a:ext cx="86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071000" y="3283560"/>
                <a:ext cx="0" cy="22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66680" y="3278880"/>
                <a:ext cx="202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65040" y="3288240"/>
                <a:ext cx="0" cy="8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20400" y="201600"/>
            <a:ext cx="7923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Release Targets 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JASPER - RC1 April 10th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OPAL - RC1 end Jul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QUARTZ RC1 October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APPHIRE - t.b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PAZ - t.b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MOND Feature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up Model Licen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DBC Assimi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untim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id Column Sor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Background System Col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tab’ option on contr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/Intranet - Obsydian® for Java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tiveX Support, including scripting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T Server - threading and prin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05120" y="1892160"/>
          <a:ext cx="5029200" cy="80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92160"/>
                    <a:ext cx="50292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ol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tive, dockable toolba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roved right-mouse button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cess from Model Editor, Inheritance path browser, etc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ow selection on mouse d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asier to learn,more consist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3240" y="1897200"/>
          <a:ext cx="213984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3240" y="1897200"/>
                    <a:ext cx="21398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ol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8400" y="773280"/>
            <a:ext cx="790560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asier-to-use, Explorer-style treeboxes in Object Browser and Gen&amp;Buil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ave/restore window position for Object and Inheritance Path Brows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un multiple instances of Obsydian concurrently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19760" y="2190600"/>
            <a:ext cx="2221200" cy="2527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34040" y="2614680"/>
            <a:ext cx="2211120" cy="252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301760" y="1397160"/>
            <a:ext cx="3473280" cy="2077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ol Highligh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8400" y="849240"/>
            <a:ext cx="790560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Model Configuration Windo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General Options property shee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24280" y="1792440"/>
            <a:ext cx="5319720" cy="40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335240" y="2575080"/>
          <a:ext cx="2403360" cy="280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5240" y="2575080"/>
                    <a:ext cx="24033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gramm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to Layout, Zoom,WYSIWYG prin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resolved relations and scoped objec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3784320" cy="2842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16840" y="2251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herited Link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3821040" cy="2855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1920" y="55627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herited Call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iagramm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Inherita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18:23:04Z</dcterms:created>
  <dc:creator>Shirley Foster</dc:creator>
  <dc:description/>
  <dc:language>en-US</dc:language>
  <cp:lastModifiedBy>Shirley Foster</cp:lastModifiedBy>
  <dcterms:modified xsi:type="dcterms:W3CDTF">1998-05-18T16:11:58Z</dcterms:modified>
  <cp:revision>209</cp:revision>
  <dc:subject/>
  <dc:title>Obsydian 3.0 and Beyond</dc:title>
</cp:coreProperties>
</file>